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6F0-E302-44C9-8594-25196E69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76C-271F-44E7-862D-569F9DFF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7FD-9EB5-457A-A482-AA32BA5A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A51-1EA0-4D58-82A5-D1E44079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68E2-234D-454E-A5DA-5F28F97F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62CB-ED95-498F-98DC-1FF9DF87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F6AA-DA61-4BCE-A916-3BFAE36E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8079-D61E-498D-AEE5-847B76CF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8D67-9AAE-4567-90AA-262E32B7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4299-A070-4198-B491-356F369E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AF32-8606-4384-840B-0F1CC6D8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2B6-1134-47BC-AF30-37538948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6106-41E6-42B8-9CE3-F6D81311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7312-2533-43E7-B561-91AF721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004C-E80F-4055-8DBC-CFC09310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A692-AFBE-430F-BB00-5C75E6DF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ACC5-D1DB-4550-BA1B-0E3F5000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EFC-5F54-4404-AEFE-EB67AC2F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58A-4815-4C4B-873A-7B97AEB2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723-7001-4505-A36E-04FCA4A1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FDE-5EFA-4933-B736-F8CFB95C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79C-867F-4819-86CC-F5E69033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A3B-54EA-4293-A98B-8F6D45B5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4AE-ED01-453E-B397-A2F50B0F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11A7-937B-40D7-8798-97C5148F90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3047-AE26-4997-85E4-87EDB88220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4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NEW PATCHES ON OLD GARMENT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9:16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2:21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; Luke 5: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Conflict of Old and N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me as the previous parable - Jesus is in Galilee eating in Matthew’s house with publicans and sin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Question of fast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question came from Joh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iples – Matthew 9:1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also came from the Pharisees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2: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hristianity is not a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patc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n Judaism; It is not an abridgement of, addition to, or syncretism with the Law of Mo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a totally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arment, suit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new privileges and bless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To try and mix the two w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stroy the purpose of b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udaism – the OLD garment is worn 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declared i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, aging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d nigh unto passing a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remiah 31:31-3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5:17-19 is a gros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isunderstanding of Jesus’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ntent in relation to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Verses 17-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is explanation is in v. 1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ith all it types, shadows and blue-prints – once fulfilled, totally loses its significance and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L”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til (always signifi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thereafter). Limits the Law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n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UNTIL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‘to the time that…’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3:19 – the law was add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until the seed come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Law was a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‘tutor unto Christ’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ow that Christ has come,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“we are no 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nguiat Bk BT"/>
              </a:rPr>
              <a:t>longer under a tuto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s. 24-25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hristianity inaugurates a totally new economy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 remodeling of the old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new in authority, government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erritory, fellowship, destiny, purpose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derstanding and scop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phets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ld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promised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ople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Garme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o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Psalm 40:3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Nam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62: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romis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Covenan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Jer. 31:31-34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Thing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40:9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ven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Earth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Isa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65:22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5. Promis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Hear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New Spiri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(Ezek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36:3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 honored Passover must find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fulfillment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in Chris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desired to eat the Passover with t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postles – the last tim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t would have Jewish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ignificanc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ven then it was prophetic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w Meaning!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Luke 22:16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eat it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Luke 22:18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kingdom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comes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Matthew 26:19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not drink… until I drink it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new…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4. 1 Corinthians 5:7 –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“our Passover…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nguiat Bk BT"/>
              </a:rPr>
              <a:t>    sacrificed… even Christ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othing in the Law is incumbent on the church – Eph. 2:14-16; Col. 2:13-17; Gal. 3:15-19, 21-31; 5:2-6.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8:00:03Z</dcterms:created>
  <dc:creator>Jerry Cantrell </dc:creator>
  <dc:description/>
  <dc:language>en-US</dc:language>
  <cp:lastModifiedBy>Jerry Cantrell </cp:lastModifiedBy>
  <dcterms:modified xsi:type="dcterms:W3CDTF">2006-02-13T10:42:06Z</dcterms:modified>
  <cp:revision>11</cp:revision>
  <dc:subject/>
  <dc:title>LESSON 4 NEW PATCHES ON OLD GARMENTS</dc:title>
</cp:coreProperties>
</file>