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4A34-E72D-47F1-9191-7857F9801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AA72-497B-4FBC-8AFC-26906C7E0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07DF-7B85-4AA1-9ECF-72167A8C5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03DE-17C8-4DC2-B432-BC5930D6A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AE126-9E01-44E4-A992-C4FB4C884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4E4DF-0877-44C8-A2E1-BCAA529C8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B75E3-80DA-4EAC-B9B7-81FF8F2F0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69643-D687-4AE1-9CCA-C9ABF33C7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C9BF8-6BFF-42A3-9862-9EAB36A2C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AD1D1-9E22-4186-B73E-73381D85D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B1D54-67FB-4D12-AAA6-8EF9C42A3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FE04-91BB-449D-A5E0-0309FF5D5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36029-1C51-4C12-A543-250367757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56920-55D0-403C-984B-C142E436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41422-C41D-49BE-837F-2F2C41EE9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780DB-5DF9-47A5-9AE0-8A492C32D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0F3F9-F7B7-4C45-B727-35228815F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A4F6-8F61-4315-BA83-4CD2B9C68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4D04-1AEA-44B2-B2A8-3250E8048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9502-0719-41ED-AFE2-00C8E9674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6EED-CD9F-4526-A4F3-26D352C2D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99C9-4646-434B-BB7A-2DF185F8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529F-7E44-42AF-8429-13914C1AD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432C-4A66-476F-BC55-0FD17E6B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45E64-43CB-485F-AF94-A8A94173BA1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3141A-BA91-4E16-BB74-50B704F9394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Lesson 3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Bodoni MT Black"/>
              </a:rPr>
              <a:t>GUEST OF THE BRIDEGRO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533520" y="388620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enguiat Bk BT"/>
              </a:rPr>
              <a:t>Mark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Benguiat Bk BT"/>
              </a:rPr>
              <a:t>2:18-20</a:t>
            </a:r>
            <a:r>
              <a:rPr b="0" lang="en-US" sz="3600" spc="-1" strike="noStrike">
                <a:solidFill>
                  <a:srgbClr val="ffffff"/>
                </a:solidFill>
                <a:latin typeface="Benguiat Bk BT"/>
              </a:rPr>
              <a:t>; Luke 5:33-3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INT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34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General Theme:  Good News of the Kingd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ain Lesson:  Contrast of the Old and The Ne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Bodoni MT Black"/>
              </a:rPr>
              <a:t>SETTING</a:t>
            </a: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 OF THE PARAB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SzPct val="12894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Jesus is in Galilee eating in Matthew’s house with publicans and sinners (Mark 2:15-16)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A great feast &amp; great multitude of Publicans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(Luke 5:29). </a:t>
            </a:r>
            <a:r>
              <a:rPr b="0" i="1" lang="en-US" sz="2300" spc="-1" strike="noStrike">
                <a:solidFill>
                  <a:srgbClr val="ffffff"/>
                </a:solidFill>
                <a:latin typeface="BernhardMod BT"/>
              </a:rPr>
              <a:t>“Levi held a great banquet…”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John’s disciples, Pharisees were fasting (Mark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2:18). </a:t>
            </a:r>
            <a:r>
              <a:rPr b="0" lang="en-US" sz="2300" spc="-1" strike="noStrike" u="sng">
                <a:solidFill>
                  <a:srgbClr val="ffffff"/>
                </a:solidFill>
                <a:uFillTx/>
                <a:latin typeface="Benguiat Bk BT"/>
              </a:rPr>
              <a:t>Their Question to Jesus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: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1. John’s disciples fasted often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Their fast were in contrast to the law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John came </a:t>
            </a:r>
            <a:r>
              <a:rPr b="0" lang="en-US" sz="2300" spc="-1" strike="noStrike" u="sng">
                <a:solidFill>
                  <a:srgbClr val="ffffff"/>
                </a:solidFill>
                <a:uFillTx/>
                <a:latin typeface="Benguiat Bk BT"/>
              </a:rPr>
              <a:t>neither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 eating or drinking – had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a demon (Matt. 11:18)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Jesus came eating and drinking – A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glutton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&amp; winebibber (Matt. 11:19)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John’s disciples fasted as a warning of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impending doom (ax at the root)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" dur="5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" dur="50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Bodoni MT Black"/>
              </a:rPr>
              <a:t>SETTING</a:t>
            </a: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 OF THE PARABLE </a:t>
            </a: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2. Pharisees fasted often to show pie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Fasted to be seen of men (Matt. 6:16-18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Fasted “twice weekly” to show piety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(Lk. 18:12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Religion was a burden to be borne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(Matt. 23:1-12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Fasted to accumulating meri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3. Demands of the Law on fast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One fast per year (Lev. 23:27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Referring to Levitical fast (Acts 27:9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Fast were voluntary (practiced for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sorrow, affliction, humiliation in sin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Bodoni MT Black"/>
              </a:rPr>
              <a:t>SETTING</a:t>
            </a: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 OF THE PARABLE </a:t>
            </a: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wo Questions Asked By Pharisees &amp; John’s Disciples (Mark 2:18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“Why He eats with Pharisees &amp; 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sinners?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1. Answer: Mark 2:17 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“The healthy do 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    not need a doctor…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2. Matthew 9:13 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“Go and learn what this  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     means, I desire mercy, not sacrifice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3. Luke 5:32, adds, 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“…come to call 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     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     sinners to repentance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Bodoni MT Black"/>
              </a:rPr>
              <a:t>SETTING</a:t>
            </a: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 OF THE PARABLE </a:t>
            </a: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300" spc="-1" strike="noStrike">
                <a:solidFill>
                  <a:srgbClr val="ffffff"/>
                </a:solidFill>
                <a:latin typeface="BernhardMod BT"/>
              </a:rPr>
              <a:t>“</a:t>
            </a:r>
            <a:r>
              <a:rPr b="1" i="1" lang="en-US" sz="2300" spc="-1" strike="noStrike">
                <a:solidFill>
                  <a:srgbClr val="ffffff"/>
                </a:solidFill>
                <a:latin typeface="BernhardMod BT"/>
              </a:rPr>
              <a:t>Why do your disciples not fast?”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Benguiat Bk BT"/>
              </a:rPr>
              <a:t>1. What right do you have to celebrate?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Benguiat Bk BT"/>
              </a:rPr>
              <a:t>2. Why do you reject common practice &amp; order?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Benguiat Bk BT"/>
              </a:rPr>
              <a:t>3. How do you justify being different?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SzPct val="12894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Jesus answers question on fasting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Bridegroom is here – It is time for rejoice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1. Not a time for sorrowful fast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2. Compares it to a marriage feast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3. What groom is to bride; Christ is to disciple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When groom is gone, they will fast (Lk 17:31ff)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1. Fast has meaning only when there is a reason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2. If no reason or circumstance, then it is mere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          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    pious mockery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gospel does not bind Jewish fa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Fasting is allowed but never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ritual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Demon cast from Epileptic Boy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(Matt 7:21; Mk 9:29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Paul/Barnabas set apart by fasting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(Acts 13:2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Elders ordained by fasting (Acts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4:22-23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E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Paul fasted often (2 Cor. 11:27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hange comes slowly &amp; most always meets with resistanc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Gladness accompanies redemption;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Jews did not understa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Lk 15 – Father kills fatted calf;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elder brother fast and sulk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John the Baptist – John 3:29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Romans 14:17 – What is th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Kingdo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E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Galatians 5:22 – Fruits of the spiri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SzPct val="10972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How change meets resistance – Examples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Plucking ears of grain on the Sabbath – 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Mark 2:23-28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Healing a woman on the Sabbath - 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Luke 13:11-17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It is easy for tradition to settle into law 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and anything that would be normal is 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taken as abnormal to the 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traditionalist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When actions become habit, and habits 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becomes custom, and custom settles 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into tradition, then tradition becomes 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law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4:28:58Z</dcterms:created>
  <dc:creator>Jerry Cantrell </dc:creator>
  <dc:description/>
  <dc:language>en-US</dc:language>
  <cp:lastModifiedBy>Jerry Cantrell </cp:lastModifiedBy>
  <dcterms:modified xsi:type="dcterms:W3CDTF">2006-02-13T10:29:53Z</dcterms:modified>
  <cp:revision>19</cp:revision>
  <dc:subject/>
  <dc:title>GUEST OF THE BRIDEGROOM</dc:title>
</cp:coreProperties>
</file>