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381E-B04F-4F70-B27B-1D3CEFA2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87CE-AF0A-4C54-A981-2672AD27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25C3-70EF-42D9-9183-5AD7426F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61F4-21C8-4637-9A41-B6A984AB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1094-9698-4934-B9D4-5FA19AE00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D946-5BF0-47F8-8855-13E87D68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54E9-CDE5-467F-90C4-310FB6AE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3631-9616-4EC8-962D-03F90B24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A2ED-180D-4BB9-AB75-62DC06CB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0EFB-12DD-45DD-813A-EB02231E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FA1F-8CB9-486D-B070-9CC4603B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D7A5-0642-49FC-832C-7ED28202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6743-D5E7-4FD8-9567-48E289E8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5EF8-EC8D-4355-BA4E-63805AF4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778B-7FE0-4B08-B86A-4BEBF891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81AC-1687-40A7-8F32-102B09C6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120E-19B0-4C03-ADE6-CF69AB461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F499-DE62-47C5-8098-79A32202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3F5A-6EB7-4E7E-907D-BEB5C2B6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E704-A63B-4CE8-B9BF-5F9491D0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236A-41EA-43DF-B2EE-BF412D6C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E4A8-D621-4974-B20A-BE2EC193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8035-6701-4F28-8806-8DEA67F9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827F-C6BF-421F-A87F-5A0EA6B0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A042-F48D-40EC-AD81-0C6F05DB9C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053C-8743-497B-8E6A-51D9043153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Lesson 3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Bodoni MT Black"/>
              </a:rPr>
              <a:t>GUEST OF THE BRIDEGRO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533520" y="38862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Mark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Benguiat Bk BT"/>
              </a:rPr>
              <a:t>2:18-20</a:t>
            </a: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; Luke 5:33-3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Good News of the Kingd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 Contrast of the Old and The Ne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SzPct val="1289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esus is in Galilee eating in Matthew’s house with publicans and sinners (Mark 2:15-16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 great feast &amp; great multitude of Publicans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(Luke 5:29). </a:t>
            </a:r>
            <a:r>
              <a:rPr b="0" i="1" lang="en-US" sz="2300" spc="-1" strike="noStrike">
                <a:solidFill>
                  <a:srgbClr val="ffffff"/>
                </a:solidFill>
                <a:latin typeface="BernhardMod BT"/>
              </a:rPr>
              <a:t>“Levi held a great banquet…”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ohn’s disciples, Pharisees were fasting (Mark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2:18). </a:t>
            </a:r>
            <a:r>
              <a:rPr b="0" lang="en-US" sz="2300" spc="-1" strike="noStrike" u="sng">
                <a:solidFill>
                  <a:srgbClr val="ffffff"/>
                </a:solidFill>
                <a:uFillTx/>
                <a:latin typeface="Benguiat Bk BT"/>
              </a:rPr>
              <a:t>Their Question to Jesus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1. John’s disciples fasted ofte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eir fast were in contrast to the law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ohn came </a:t>
            </a:r>
            <a:r>
              <a:rPr b="0" lang="en-US" sz="2300" spc="-1" strike="noStrike" u="sng">
                <a:solidFill>
                  <a:srgbClr val="ffffff"/>
                </a:solidFill>
                <a:uFillTx/>
                <a:latin typeface="Benguiat Bk BT"/>
              </a:rPr>
              <a:t>neither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eating or drinking – had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 demon (Matt. 11:18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esus came eating and drinking – A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glutton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&amp; winebibber (Matt. 11:19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ohn’s disciples fasted as a warning of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impending doom (ax at the root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Pharisees fasted often to show pie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asted to be seen of men (Matt. 6:16-18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asted “twice weekly” to show piety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(Lk. 18:12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Religion was a burden to be born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(Matt. 23:1-12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asted to accumulating mer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 Demands of the Law on fas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One fast per year (Lev. 23:27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Referring to Levitical fast (Acts 27:9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ast were voluntary (practiced for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sorrow, affliction, humiliation in sin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wo Questions Asked By Pharisees &amp; John’s Disciples (Mark 2:18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Why He eats with Pharisees &amp;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sinners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 Answer: Mark 2:17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The healthy do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    not need a doctor…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 Matthew 9:13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Go and learn what this 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     means, I desire mercy, not sacrific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3. Luke 5:32, adds,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…come to call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    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     sinners to repentanc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BernhardMod BT"/>
              </a:rPr>
              <a:t>“</a:t>
            </a:r>
            <a:r>
              <a:rPr b="1" i="1" lang="en-US" sz="2300" spc="-1" strike="noStrike">
                <a:solidFill>
                  <a:srgbClr val="ffffff"/>
                </a:solidFill>
                <a:latin typeface="BernhardMod BT"/>
              </a:rPr>
              <a:t>Why do your disciples not fast?”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Benguiat Bk BT"/>
              </a:rPr>
              <a:t>1. What right do you have to celebrate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Benguiat Bk BT"/>
              </a:rPr>
              <a:t>2. Why do you reject common practice &amp; order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Benguiat Bk BT"/>
              </a:rPr>
              <a:t>3. How do you justify being different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SzPct val="1289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esus answers question on fasting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ridegroom is here – It is time for rejoic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1. Not a time for sorrowful fast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2. Compares it to a marriage feast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3. What groom is to bride; Christ is to discipl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When groom is gone, they will fast (Lk 17:31ff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1. Fast has meaning only when there is a reaso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2. If no reason or circumstance, then it is mere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         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   pious mockery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gospel does not bind Jewish fa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asting is allowed but never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itual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emon cast from Epileptic Boy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tt 7:21; Mk 9:29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ul/Barnabas set apart by fasting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Acts 13: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lders ordained by fasting (Act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4:22-2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ul fasted often (2 Cor. 11:27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hange comes slowly &amp; most always meets with resista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ladness accompanies redemption;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ews did not underst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k 15 – Father kills fatted calf;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lder brother fast and sul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ohn the Baptist – John 3:2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omans 14:17 – What is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Kingdo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alatians 5:22 – Fruits of the spiri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SzPct val="10972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How change meets resistance – Example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Plucking ears of grain on the Sabbath –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Mark 2:23-28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Healing a woman on the Sabbath -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Luke 13:11-17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It is easy for tradition to settle into law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and anything that would be normal is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taken as abnormal to the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traditionalis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When actions become habit, and habits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becomes custom, and custom settles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into tradition, then tradition becomes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law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4:28:58Z</dcterms:created>
  <dc:creator>Jerry Cantrell </dc:creator>
  <dc:description/>
  <dc:language>en-US</dc:language>
  <cp:lastModifiedBy>Jerry Cantrell </cp:lastModifiedBy>
  <dcterms:modified xsi:type="dcterms:W3CDTF">2006-02-13T10:29:53Z</dcterms:modified>
  <cp:revision>19</cp:revision>
  <dc:subject/>
  <dc:title>GUEST OF THE BRIDEGROOM</dc:title>
</cp:coreProperties>
</file>