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FBBEF-8224-4CCF-BDD8-78E17858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67C7F-FDFC-4E02-98DD-03B6ED4D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3B28C-27FF-4DC8-99B0-83DC144D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701D6-8355-4AEB-9155-86C66ED5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7763-4149-44EC-B812-464902D0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7FCC-5072-405E-93E6-6162E4D3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9197-1B4C-4022-A32A-E5FA8D90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F527-CDA2-4856-B22F-22A0C2C6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7E9C-858F-4DA7-B0A1-358B4058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F50E-7048-40E1-9E37-0144BCD0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0961-686A-4AC3-BE7B-ECCA1DB5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A008A-DFAE-456C-936F-3DBBF654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063B-0649-49C3-BFF9-1D68B9C8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58BD-B308-4591-B048-BF7A68AF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4B5C-2C15-469D-A6FB-FBE36FE6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228B-0868-4E1D-A22D-69C21915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61BE-9E1F-4AAE-9130-250739CA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F9D87-FBA3-4A4E-9BB0-04E1014D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9E273-D0F0-4A46-83F1-48597705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8D0F0-7412-47DF-BE34-20D1444B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03C58-47CE-4897-A835-05677EA5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E573E-0ADC-4B20-9221-640D2C97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C6CB6-3499-43A8-A737-6290F8DC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18CE-7AD2-49AD-9991-DD3D3E9A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689E-3D5F-4671-B633-246D95AFDE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4931-F81D-4098-AECD-7C44FED3F1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1736640"/>
            <a:ext cx="8534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odoni MT Black"/>
              </a:rPr>
              <a:t>THE WISE AND FOOLISH BUILDER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6840" y="42670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nguiat Bk BT"/>
              </a:rPr>
              <a:t>Matthew 7:24-27, Luke 6:46-4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Translating hearing into do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Obedience must be added to hearing Jesus’ wor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1" lang="en-US" sz="6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44956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iven at the close to the Sermon on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ou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1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sermon demanded a positive response – it could not be ignore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 The challenge of the sermon would not go awa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re is no neutral ground – no third op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at challenge is a fitting conclusion to these last parables, for the response to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message is crucial, critical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Hearing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of the message – The Soi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Pondering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of the message – The Children at Pla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Response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to the Message – The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In the latter part of the sermon, Jesus uses three sets of contrast to show the absolute necessity of obedience to His messag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Matthew 7:13-14 –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Broad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way leads to destruction,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nd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Narrow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way leads to lif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Matthew 7:16-19 –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Good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Tree bearing good fruit and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Evil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Tree bearing evil frui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n the third is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Wise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Foolish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Lip-service is never a substitute for actions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Matthew 7:21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not everyone who says unto me Lord,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Lord…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Luke 6:46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and why me Lord, Lord and do not the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things I say?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Unreserved obedience is demanded by our Lord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Romans 2:13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for it is not those who hear the law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who are righteous in God’s sight, but it those who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obey the law who will be declared righteous.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There was no profit to the Hebrews because they did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not associate hearing the word with doing the word.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a. Hebrews 3:19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so we see they were not able to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    enter, because of their unbelief.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b. Hebrews 4:6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…they did not go in because of their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    unbelief.”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James 2:2 – </a:t>
            </a:r>
            <a:r>
              <a:rPr b="0" i="1" lang="en-US" sz="2100" spc="-1" strike="noStrike">
                <a:solidFill>
                  <a:srgbClr val="ffffff"/>
                </a:solidFill>
                <a:latin typeface="Benguiat Bk BT"/>
              </a:rPr>
              <a:t>“a man is justified by what he does </a:t>
            </a:r>
            <a:r>
              <a:rPr b="0" i="1" lang="en-US" sz="2000" spc="-1" strike="noStrike">
                <a:solidFill>
                  <a:srgbClr val="ffffff"/>
                </a:solidFill>
                <a:latin typeface="Benguiat Bk BT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Benguiat Bk BT"/>
              </a:rPr>
              <a:t>not by faith only.”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ll hearers are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oth heard the same message – And it was the right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messag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re are only two kinds of build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Wise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– Builds on Jesus’ word; life modeled by His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morals; patterned by His exampl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enguiat Bk BT"/>
              </a:rPr>
              <a:t>Foolish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– Builds on foundations of his own choosing;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makes up his own life-style; establishes his prioriti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Hearers have two choices from which to choose their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founda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a. “Puts them into practice” – obeys = rock – has a solid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foundation for lif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1)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ecause Christ’s words are truth – John 8:31-32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2)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ecause His words came from God – John 8:48-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50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3)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Because He the foundation on which God builds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the church – Matthew 16:18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“Does not put them into practice” – disobeys = Sand – Shifty,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unstabl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1) Rejection of Jesus’ teaching is a choic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2) This is the spirit and attitude of the sons of disobedient –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    Ephesians 2:2-3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3) If God doesn’t build the house, the laborers build in vain –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    Psalm 127: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he floods will com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 1 Peter 4:12 – </a:t>
            </a:r>
            <a:r>
              <a:rPr b="0" i="1" lang="en-US" sz="1800" spc="-1" strike="noStrike">
                <a:solidFill>
                  <a:srgbClr val="ffffff"/>
                </a:solidFill>
                <a:latin typeface="Benguiat Bk BT"/>
              </a:rPr>
              <a:t>“Do not be surprised at the painful trials…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2 Timothy 3:12 – If you live a godly life, you will suffe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5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ll houses are tested by flood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 Impartial – Same flood hits both house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Each man’s works will be made known – 1 Corinthians 3:13;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cf. Hebrews 12:1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6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Only one builder will stand – the one who obeys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 Only the obedient are saved – Hebrews 5:9; 2 Thessalonians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    1: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 </a:t>
            </a:r>
            <a:r>
              <a:rPr b="0" i="1" lang="en-US" sz="1800" spc="-1" strike="noStrike">
                <a:solidFill>
                  <a:srgbClr val="ffffff"/>
                </a:solidFill>
                <a:latin typeface="Benguiat Bk BT"/>
              </a:rPr>
              <a:t>“And it fell with a great crash.” 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– Everything was lost!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07:27:05Z</dcterms:created>
  <dc:creator>Jerry Cantrell </dc:creator>
  <dc:description/>
  <dc:language>en-US</dc:language>
  <cp:lastModifiedBy>Jerry Cantrell </cp:lastModifiedBy>
  <dcterms:modified xsi:type="dcterms:W3CDTF">2006-02-19T10:13:58Z</dcterms:modified>
  <cp:revision>7</cp:revision>
  <dc:subject/>
  <dc:title>THE WISE AND FOOLISH BUILDERS</dc:title>
</cp:coreProperties>
</file>