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5D9-0D1D-4C9F-B62D-5C1A7B70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D9C-3AFA-4351-BEBE-D7AF7481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696-6D7C-401D-B6DB-172CBD37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05A-EAFA-49E4-A6D3-6DDC5009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C73F-ED0E-4E3E-A085-833107F3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20F0-FF05-4A0A-8486-9E5B898B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257A-C6B8-4A37-860D-3E267320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D5EC-D2D2-4C45-8176-910B64C6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ABA9-174E-43BD-ABD0-E797AF5F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72B7-CA8D-452B-AB6D-1430E2E6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5C0D-0598-48B6-A794-25C0238B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804-7F62-430D-B94E-F76F92FF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A20B-887F-46DC-B5F7-1CABB241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B053-1072-4F1C-80B5-B09CB214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F0E2-FFEC-415D-8EB3-65098A40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09A6-6DF6-4329-9D35-CACB5BBC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9446-CC6E-43E2-B1D3-74FED818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C8F-8541-4994-8286-A1818110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894-74BB-469C-9874-B9D291BF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550-2844-4879-A814-A5098844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CA4-7F64-4337-BA10-2AB3042A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80D-5CA5-45C4-9F90-BA2FA660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98B-759D-46CC-AE6A-5656998B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CC8-8E25-4498-A124-1B806F4C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9719-861A-4067-9EF7-DCD17AC073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218A-AE98-456D-B715-2CDF11AD4F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7</a:t>
            </a:r>
            <a:br>
              <a:rPr sz="36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PARABLE OF THE GROWING TRE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rk 4:26-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6:63 – It is the words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I have spoken to you”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at gives lif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15:3 – It is the word that cleanses a lif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8:31-32 – It is abiding in the word tha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makes a man fre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ames 1:18 – The word of God begets us (1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Peter 1:23)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ames 1:21 - It is the implanted word tha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ave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 Thess 2:13 – it is the received word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which works in you that believe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ebrews 4:12 –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the word of God is living, active,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sharper…piercing and judging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saiah 55:10 – God’s word does what 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emands of i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Little wonder Satan wants to take the word out of the heart of man – Lk 8:12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 Thess 2:15 – the Jew drove Paul out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forbidding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us to speak to the Gentiles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that they may be saved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V. 18 – Paul would have</a:t>
            </a:r>
            <a:r>
              <a:rPr b="1" lang="en-US" sz="2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come to you, I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Paul. Once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and again, and Satan hindered me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Growth is gradual and occurs in an orderly, natural sequen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 Development is inherent in the seed; God built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the cycle of reproduction into the seed itself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. There is little the sower can do after sowing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but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sleep and rise night and day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2. He cannot make the sun shine, clouds to giv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early and later rains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(Jas 5:7), or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fruitful seasons.”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(Acts 14:17)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4: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We are not born into the Kingdom full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gr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1 Peter 1:23 – The wor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rminates the new bir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Peter 2:1-2 – That sam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ord, as spiritual milk, fe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s as we grow unto sal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2 Peter 3:18 – we continue to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“grow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in the grace and knowledge of our Lord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Jesus Chris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1 Corinthians 3:1-4 – they ha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been fed on milk, and still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needed milk, so they were fe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milk to prepare them for m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Hebrews 5:12-14 – Milk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 babies, but 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“meat is for full 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 grown men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Hebrews 6:7-8 – Go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expects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a useful crop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sower does his work and then trust God with the incr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ames 5: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ames 5: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 Corinthians 4:7 – The all-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urpassing power is from G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alatians 6: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cts 14: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cts 20: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MESSAGE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essage to these hearers was that the Kingdom would grow and produce fruit and be harves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growth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be dependent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who sowe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standing grain does not know anything about the harvest; only the reaper knows th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Only the reaper knows when the harvest will 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LESSONS LEARNED FROM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coming to harvest the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elation 14:14-16 shows Chri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th a crown and a golden sick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is told,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take your sickle and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reap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up to us to be good soil an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produce much fr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Gradual, orderly growth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It is the same of Matthew 13 &amp; Mark 4:1.  He is using a boat as His pulpit and His auditorium is the seashore filled with a </a:t>
            </a:r>
            <a:r>
              <a:rPr b="0" i="1" lang="en-US" sz="2200" spc="-1" strike="noStrike">
                <a:solidFill>
                  <a:srgbClr val="ffffff"/>
                </a:solidFill>
                <a:latin typeface="Benguiat Bk BT"/>
              </a:rPr>
              <a:t>“great multitude of people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Mark records many of the Matthew 13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parables, so the setting and time must b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identic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ut Mark is the only one to record this parabl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– maybe it reminds him of his only gradual grow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s a serva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This parable, the Mustard Seed &amp; Leaven, ar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given to confirm faith in the disci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. Spoken to those who may have doubted at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some time (no army, wealth, etc. for His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kingdom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2. These three parables surely built confidenc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and hope in His disci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We see ideas about the Kingdom that need to understood from a Biblical perspective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God is sovereign ruler over the 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Kingdo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1. Judges 8:23 – words of Gideo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2. 1 Samuel 8:7 – Israel demands a 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    king and God tells Samuel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3. Psalm 103:19 – Still God reig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coming of the Messianic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In Prophec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Isaiah 2:1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Isaiah 9: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Jeremiah 30:8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Daniel 2: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Daniel 7:13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 Zechariah 6:12-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2. The Kingdom is fulfilled during the ministry of Jesus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Mark 1:13-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Matthew 6:1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Luke 9: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d. John 18:36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3. The Kingdom established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Acts 2:30 – Jesus on David’s thron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1 Timothy 1:1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1 Timothy 6: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4. Names of the Kingdom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Matt. 4:23 – Simply called the Kingdom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Matt. 19:24; Mk 9:1; Jno 3:3 – Kingdom of God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Matt. 13:43 – Kingdom of the Fathe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d. Matt. 3:2 – Kingdom of Heaven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e. Matt. 16:28 – Kingdom of the Son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f. Eph. 5:3-5 – Kingdom of Christ &amp; God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od does His job when we do ours (1 Peter 1:23-2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” (God’s Word) – Lk 8:1; Mk 4:14; 1 Pet 1:23-2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” is “sown” when we preach the Gospel – Mk 4:26; 1 Cor 3:5-6; 9:11; Psalm 126:5-6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 must be sown – otherwise no “harves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ohn 4: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 Corinthians 9:6-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ohn 6:44-4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omans 10:11-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Romans 10: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Cf. verse 1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cts 4:4; 18:8 – Hearing precedes belie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od provides the seed – It is, after all, the Word of Go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 Corinthians 9:10 – This i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fferent context, but the trut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mains that God gives the s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saiah 55: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28: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 Thessalonians 2:13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uke 10: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rm, or power of life, is in the seed – the Word of G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major thrust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is a creation principle – Gen. 1:9-12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each seed produc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fter its ki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source of all lif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Power is not in the “sower” for 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“cast the seed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1 Corinthians 3:5-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Power is not in the “soils” –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ground only provides the site fo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the seed to do it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2:33Z</dcterms:created>
  <dc:creator>Jerry Cantrell </dc:creator>
  <dc:description/>
  <dc:language>en-US</dc:language>
  <cp:lastModifiedBy>Jerry Cantrell </cp:lastModifiedBy>
  <dcterms:modified xsi:type="dcterms:W3CDTF">2006-01-23T00:33:08Z</dcterms:modified>
  <cp:revision>16</cp:revision>
  <dc:subject/>
  <dc:title>Lesson 7 PARABLE OF THE GROWING TREE</dc:title>
</cp:coreProperties>
</file>