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F38-913E-496D-8464-9D11BD0A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8CB-9F17-4574-994D-FE4A9AE2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AA2-3D4F-4022-8AA2-E551E1BF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90E-EA6C-4247-9028-CA4904F7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5B62-01A7-42B4-A520-7E4CA808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A547-3B4E-409F-B861-300F5DC1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0E82-EA5C-4448-99D1-32EB4215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F299-84AF-4ACC-8F38-A6CAF5F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2D61-9F98-4EC8-AF9A-90E5BDF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4FB3-E106-45EB-9C0A-17B9BC2A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1856-47E6-4FBA-979F-E146F009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C3A-32A3-4ACC-B9C8-BED6A198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9501-C14A-4F29-8F81-E109EF5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FFB5-1BBA-4584-9E44-9A927AB7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3CA0-ACCA-4C26-9288-3AF9D590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AF2-C3B2-41F1-85D3-5A6D5F10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E341-D813-4938-BBD1-5008CFFA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BFE-735B-406E-9C3B-AE5BA1C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EE6-836A-4EB1-BA21-1DDD975B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2B9-2D96-487A-A5C7-B88A0F9E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BEF-669B-421B-962D-86DD99D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8C4-D9F0-47D7-A2F5-35152C02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735-9D4D-40A5-B4CF-35DFF97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3E4-3986-4059-88CD-44C3335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E39-A8A5-4679-8C76-DA4F6EBEC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07C3-C6CB-4F53-8A8E-609798BA6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SYLLAB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AD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Read each of the parables two times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MORY VER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14:33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9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2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3:2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13: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SEARCH PAP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rite a two-page essay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an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one of the list 45 Parables (your choi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XA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e Exam – a F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ELF-EXAM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mplete all your Self-Exa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 Chapter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am question will come from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AD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EMORY VER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SEARCH PAP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SELF-EXAM QUES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INAL EX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57:56Z</dcterms:created>
  <dc:creator>Jerry Cantrell </dc:creator>
  <dc:description/>
  <dc:language>en-US</dc:language>
  <cp:lastModifiedBy>Jerry Cantrell </cp:lastModifiedBy>
  <dcterms:modified xsi:type="dcterms:W3CDTF">2006-02-06T23:29:51Z</dcterms:modified>
  <cp:revision>4</cp:revision>
  <dc:subject/>
  <dc:title>SYLLABUS</dc:title>
</cp:coreProperties>
</file>