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843-E503-4734-A19B-82953D9E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B35-6B95-4975-AA0A-16FFF8F8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731-77F1-4E2F-8436-EEE3356D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B10-0A19-4EA1-9733-37CDF653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E69D-3A4B-4C17-AA95-EA1CF863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2247-BE79-418C-86EE-E89FE271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33DE-5901-4E57-841E-D422DB81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EA7C-CEE3-41C9-A877-EAEC5920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EAEB-14BC-4EC1-884A-043EB1AB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EE9C-EADB-427C-A409-3A6B91AB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B137-BFFB-4241-94C1-9586B6D4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4167-A400-423D-87AC-9764CA11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0A82-BE23-4000-8489-F141A448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653B-B7EE-481A-9D0D-9963D97A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0CF5-86CF-41F1-9B09-81C6CE7A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F568-7D74-4ABA-B618-04803FAC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4D80-15A6-48AD-93B9-DBB1C06F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934-B3DF-4D25-BAE0-3A5BAC8C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F03-6B35-446D-9DC7-AA230D9F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3D1-9B46-401C-B184-8F1EBCB2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BA9-5E3E-45BF-8425-F018C520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637A-F0CB-45BC-866E-A804FDCF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973-22D0-4523-8E9F-624ACFD3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997-7AAF-4518-9D38-2D93D595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87E5-0F26-43CA-9952-649EA50D4A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2938-6E5B-4E4F-88B8-604A1DAD55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8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Bodoni MT Black"/>
              </a:rPr>
              <a:t>THE PARABLE OF THE MUSTARD SEED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41148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13:31-32;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Mark 4:30-32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; Luke 13:18-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re is prophecy in the parable of Great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 24:14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the end will come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(Jewish age)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after gospel has been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preached to the whole world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 5:9-10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Christ purchased men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from every tribe, language, people &amp;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nation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 7:9 –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great multitude…from every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nation, tribe, people, language…”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Kingdom’s growth still involv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smal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bu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vital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thi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Revolution begins wit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ten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 church begins in a new er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rough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efforts of one per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person’s prayer leads to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vangelization of a n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E.A.O. Essein (Nigeria) was taught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rough BCC course at suggestion of Eva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Benguiat Bk BT"/>
              </a:rPr>
              <a:t>raun (Hitler’s paramour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 glorious end is more important than a glorious beginning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Kingdom of God is a living,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dynamic organism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The glory of Nebuchadnezzar, tower of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abel, Roman Empire, all had glorious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beginnings, but ended in rubble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Daniel 7:14 – The Kingdom had a 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Benguiat Bk BT"/>
              </a:rPr>
              <a:t>small beginning, but it will never end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m. Barclay and others try to make the parable fit modern denominationalis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tree would be the church;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ranches would be the variou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enomin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ut this make the application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 to those in the first century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thout relevance – there was only on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hurch th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would interpret the parable from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rospective of today’s many church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Great growth of the Kingdom will come from a very small begin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same as Matthew 13:1; Mark 4:1; - The boat is still His pulp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has the seed sown in a field;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in the earth; Luke in a gard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tthew presents this parable afte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e “Soils” &amp; “Tares” – both dealing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ith sowing the se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presents the “Soils,” then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Growing Tree,” then the “Mustar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See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Luke isolates this parable and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“Leaven” parable from either contex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lanation of the details essential to under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Mustard Seed” – In Jewish idiom an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verb – the smallest of see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Not literally so, for cypress, poppy &amp; Ru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are small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“Mustard Seed” in proverbial langu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Matthew 17: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Luke 17: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In Matthew you could move mountains;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Luke you can transplant sycamine tre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in the oc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In these cases – as in the parable – Go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can do marvelous things with small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beginn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tree of the Mustard plant may grow 10-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2 feet tall, but that is hardly impressiv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when compared to the cedars of Leban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Luke does not mention the smallness of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seed, but the greatness of the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The point of the parable is neither the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smallness of the seed, nor the greatnes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the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It is simply a contrast between the tree’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greatness compared with the smallness of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seed from which it ca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 Jesus wants to teach the disciples that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Kingdom will be glorious in spite of it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apparent weak, despised beginning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Bodoni MT Black"/>
              </a:rPr>
              <a:t>SETTING</a:t>
            </a: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Trees in scripture are symbols of “Kingdoms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It is always God who determines their seasons an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streng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 Ezekiel 17:22-24 – Jehoiachin’s Kingd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(597 BC) is like a tree clipped and take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into Babyl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) God said,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And all the trees of the field shall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know that I the LORD have brought down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high tree, have exalted the low tree, have drie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up the green tree, and have made the dry tre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to flourish: I the LORD have spoken and hav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done i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) Daniel 4:10-18 – Nebuchadnezzar’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    Kingdom was like a great tr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 Ezekiel 31:3-14 – Assyria was as a cedar in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   Lebanon – hewn down because of pr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reat growth can come from small beginn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aniel 2:34-35 – The stone became a grea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ount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ne seed is hardly a fitting meal for a bird, but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if planted it has the power to feed a n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Probably not relating the parable to hi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eginning – relates to Kingdom of heav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But if so, then an humble carpenter, from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obscure village in a conquered provi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With 12 quibbling disciples who seemed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more a detriment to His intent than prim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    movers of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 parables explanation relates to the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Kingdom’s small beginning and glorious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xpansion – Luke 12:32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The Kingdom’s amazing grow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2:41 – “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3000 added unto them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4: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umber of men came to 5000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5:1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multitudes, both men &amp; women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6:1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umber of disciples multiplied.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6:7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ord increased…disciples multiplie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Acts 8:4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ent everywhere preaching the wor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Romans 10:18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their sound into all the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earth…their words unto the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ends of the worl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Romans 15:21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Would not preach where Christ had already been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preached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1. V. 19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gospel preached from Jerusalem to Illyricum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2. v. 23 – </a:t>
            </a:r>
            <a:r>
              <a:rPr b="0" lang="en-US" sz="1800" spc="-1" strike="noStrike">
                <a:solidFill>
                  <a:srgbClr val="ffffff"/>
                </a:solidFill>
                <a:latin typeface="BernhardMod BT"/>
              </a:rPr>
              <a:t>“no more place for me to work in this region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nguiat Bk BT"/>
              </a:rPr>
              <a:t>Col. 1:23 – </a:t>
            </a:r>
            <a:r>
              <a:rPr b="0" lang="en-US" sz="1900" spc="-1" strike="noStrike">
                <a:solidFill>
                  <a:srgbClr val="ffffff"/>
                </a:solidFill>
                <a:latin typeface="BernhardMod BT"/>
              </a:rPr>
              <a:t>“gospel preached in all the world.”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ol. 1:6 – </a:t>
            </a:r>
            <a:r>
              <a:rPr b="0" lang="en-US" sz="1900" spc="-1" strike="noStrike">
                <a:solidFill>
                  <a:srgbClr val="ffffff"/>
                </a:solidFill>
                <a:latin typeface="BernhardMod BT"/>
              </a:rPr>
              <a:t>“preached to all creation under heaven.”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K.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Phil. 4:22 – Christians were even in Caesar’s household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(Nero’s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There is significance in small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Zech. 4:10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who has despised the day of small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things?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rops of water and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Little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rains of sand,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make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mighty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ocean and th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mighty”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a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esus gives meaning and importance even to 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little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Matt 10:42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cup of water onl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Matt 25:30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talent is importan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3. Mark 12:44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mite was praised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4. Luke 15:4, 8 –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“one lost sheep; one lost coin are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rnhardMod BT"/>
              </a:rPr>
              <a:t>     importan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0:34:04Z</dcterms:created>
  <dc:creator>Jerry Cantrell </dc:creator>
  <dc:description/>
  <dc:language>en-US</dc:language>
  <cp:lastModifiedBy>Jerry Cantrell </cp:lastModifiedBy>
  <dcterms:modified xsi:type="dcterms:W3CDTF">2006-01-23T19:54:41Z</dcterms:modified>
  <cp:revision>14</cp:revision>
  <dc:subject/>
  <dc:title>Lesson 8 THE PARABLE OF THE MUSTARD SEED</dc:title>
</cp:coreProperties>
</file>