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28A-5E0A-49F1-B962-C9D806DB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3F7-EC09-4E39-A29F-9DFA67A4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AC7-7C5D-48DA-8D40-9E218F05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D2B-17EB-44A8-B5B2-216FCD6E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C10-ECE7-4E77-BE72-4F7EEBA0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2A36-0DC9-4F9D-A4B4-ED530C46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03D5-CA5F-4907-A997-873146AA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6C83-CD6B-4FB5-B057-569EAF91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C21A-27FE-4D5C-AFFA-30DC4C51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5ED-8431-41A4-80ED-5DE35DCB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98C9-D5D7-40C0-9FC9-B4AE1430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230-8624-478B-83F7-D1BCA68D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ADD1-4858-4C82-831A-D9C2E867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AEEE-B9B8-4E0A-BB84-D500E1E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8FE8-6526-47C3-924A-54C74F66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B46A-EED0-4D0E-A6CC-61B0E6CE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B07D-D7C9-42B7-AD87-305F49D1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CFB-AF52-4C24-B717-9E343CA8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A95-B4AD-4B71-ADC6-12F3E9B7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4DD-82A7-4202-8521-6E713746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42C-EF05-4526-9527-8BF33659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EFA-3D73-48B0-AAAF-C14FD957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F91-7802-43A4-B2BF-06C4F53C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C8D-9500-42F9-9EC4-630E38A8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7D74-54CB-4347-9B77-F7F4B95DEB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57B6-95BC-46BC-9429-62558FF677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ENERAL OUTLINE OF THE PAR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reparedness &amp; Emergency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se &amp; Foolish Virgins (Matthew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5:1-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pportunity, Fidelity and Reward (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Talents (Matthew 25:14-3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ounds (Luke 19:11-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inal Judgment of the Kingdom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heep &amp; the Goats (Matthew 25:31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FORMAT FOR STUDY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dentification and Reading of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 it General The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Out its Main Lesson or Les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uss it Cont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to make Appl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al with Problem Areas if there are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ly Ministry Parables (14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ater Ministry Parables (20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ssion Week Parables (9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mat for studying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EARLY MINISTRY (1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Good News of the Kingdom of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flict of the new and the old (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uest of the Bridegro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18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Patches and Old Gar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Wine and Old winesk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9: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easurers new and o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13:51-5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ilitudes of the Kingdom (7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Growing Seed (Mark 4:26-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(Mark 4:30-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eaven (Luke 13:20-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Hidden Treasure (Matt 13:3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earl of Great Price      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Matthew 13:45-4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ragnet (Matthew 13:47-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ponsibility of Hearing (1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(Matthew 13:3-9; Mark 4:2-8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3-20; Luke 8:4-8, 11-15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anslating Hearing into Doing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ittle Children in the Marketplac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7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se and foolish Builder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7:24-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 &amp; Presence of Evil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res &amp; Wheat (Matt 13:24-30, 36-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Children of the Kingdo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ditions of Discipleship (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mpty House (Matthew 12:43-4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Uncompleted Tow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14:29-3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arring King (Luke 14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s of discipleship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ief Seats (Luke 14:7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harisee and Publican (Luke 18:9-14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giveness Among The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wo Debtors (Luke 7:36-5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forgiving Servant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2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vileges and Duties of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arren Fig Tree (Luke 13:6-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profitable Servant (Luke 17:7-10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ourcefulness &amp; foresight in using money (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just Stewart (Luke 16:1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Fool (Luke 12:13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Man &amp; Lazarus (Luke 16:19-3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ue Nature of Neighbors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od Samaritan (Luke 10:25-3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Love of God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aborers in the Vineyard (Matthew 20:1-16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Answers Prayers (2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idnight Friend (Luke 11:5-13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ersistent Widow (Luke 18:1-8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Loves the Lost (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heep (Luke 15:3-7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Coin (Luke 15:8-10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on (Luke 15:11-2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Elder Brother (Luke 15:25-32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The Kingdom of God as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est of Deeds (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wo Sons (Matthew 21:28-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d’s Overtures Rejected (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uel Vinedresser (Matthew 21:33-4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eat Supper (Luke 14:15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riage Feast of King’s Son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dding Garments (Matthew 22:11-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22:54:12Z</dcterms:created>
  <dc:creator>Jerry Cantrell </dc:creator>
  <dc:description/>
  <dc:language>en-US</dc:language>
  <cp:lastModifiedBy>Jerry Cantrell </cp:lastModifiedBy>
  <dcterms:modified xsi:type="dcterms:W3CDTF">2006-02-07T04:50:46Z</dcterms:modified>
  <cp:revision>15</cp:revision>
  <dc:subject/>
  <dc:title>GENERAL OUTLINE OF THE PARABLES</dc:title>
</cp:coreProperties>
</file>