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B82-3BDC-455C-82C6-8876C1A5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8F1-3C28-4BA1-8D5E-B2FB2BC5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82D-5186-4C15-954C-4F0EE92E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67A-F28C-4E4B-9508-F7E5FC4E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B565-3D47-44F8-BE58-BB59DAFA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3F5-6E9B-435E-A473-8017E3A5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4A90-BA7C-470E-A0E1-C4BF90D6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2BD0-D832-402A-951C-96627FC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F6C1-7B82-4A76-8C13-2B9B454E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5499-DEF5-4BFD-B1F7-20BF89A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D19F-F8ED-4563-B42A-CE68231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AB5-89C6-4153-9610-7842825D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079-65F5-4D1D-9E21-F1E9A76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BC93-D8CE-453A-B928-3A3C0936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16E7-B67C-4351-AA94-764820E3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3FC4-A423-40D9-89DE-F7B56EEF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9045-9175-4016-BD3E-529CFB4B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DAA-359E-4FAD-A551-8A0EF093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74A-642A-4002-9767-857EF5D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4ED-2318-4663-95FB-B43C8EB0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FBD-6751-4BFC-83C8-3EF0EF3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2F1-3130-4CBF-910B-29CBB351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8DC-244B-4BC4-B3FB-02E207F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26B-514C-4004-BDE1-C477463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6E01-AEF9-4049-BFA0-BF185FC42C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CF77-870A-431A-A6CB-AC15DA6BD9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11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EARL OF GREAT PRI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5-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Seeking and finding the Kingdom is the supreme discovery bringing the greatest joy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arable of the “Hidden Treasur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Great Value” of the Kingdom is still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willingness to sacrifice all is the characteristic of the seeker for the finder of the tr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cc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rcha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Trader; merchantman; retailer – Rev. 18:3, 11,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merchants of the world weep over fallen Babylo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ear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Highly esteemed for purity and bea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ason for Jesus’ advice – Matt 7: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appreciation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iritual val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Cor. 2:1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atural man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receive the things of the spirit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velation 21:21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oly city…adorne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th twelve pearl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parable expands on the message of the “Hidden Treasur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isdom of seeking the greatest things in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b. 11:6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God is a rewarder of them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at diligent seek Him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. 6:3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seek first </a:t>
            </a: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(first importance)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gdom of Go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 7: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that seeks, find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Acts 17:2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his not far from each on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f us…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easy to find for those wh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see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had a definit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 pursued it with singleness of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Luke 15:8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woman had a lamp, swep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nd searched diligen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oo much “aimlessness”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The parable illustrates the Kingdom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rth intense and diligent se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was not satisfied with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rdinary; common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sought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fine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pearl of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great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Understanding the great worth in finding the pear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earl equates to an eternal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ved so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ohn 1:45-46 – It is Phillip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ment to Nathanael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have found the one Moses wrote about in th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law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illingness to sacrif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o posses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ar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merchant was an ordinary trader, but 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becomes a colle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His interest is no longer for physical 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Treasure is too great to negotiate wi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Possession brings joy – he would se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every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) All other pearls are sacrificed to posses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is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There may be more than one way to find a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or pearl, but there is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ay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ossession them –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sell everythi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lvation is both a gift and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ch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It is a gift - because it is no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merchant’s doing – only his disco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t is a purchase – because it is wor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everything we can put in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2:3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where your treasure is, the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ll your heart be als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Col. 3:2-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Set your mind on thing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bove, not on earthly things. For you died,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your life is now hidden with Christ in G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Matt 6:20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ut store up for yourselve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treasures in heave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21:18:32Z</dcterms:created>
  <dc:creator>Jerry Cantrell </dc:creator>
  <dc:description/>
  <dc:language>en-US</dc:language>
  <cp:lastModifiedBy>Jerry Cantrell </cp:lastModifiedBy>
  <dcterms:modified xsi:type="dcterms:W3CDTF">2006-02-10T03:29:05Z</dcterms:modified>
  <cp:revision>11</cp:revision>
  <dc:subject/>
  <dc:title>LESSON 11 THE PEARL OF GREAT PRICE</dc:title>
</cp:coreProperties>
</file>