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EFF-0C45-4BA5-9DF5-86C6F0F1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2AE-018B-41F1-B0B6-5D08159E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9FF-0CAE-4F67-8B26-671F578E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8292-8229-40E0-90EC-B999B7E5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3DD6-F16D-4A46-87D0-5E167E6E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F8BD-B786-49CD-BDF7-DB53872D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C8CB-B948-4D35-91CF-FAC6F184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4CE6-0141-480E-90E6-4EAE3E6D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011C-9B7C-4E13-B3FD-0B79DCBB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BA2D-52CD-4EE6-8F38-09247FCC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8613-E223-4165-993F-FD4B8992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DABB-5FAE-4DDA-A78F-9BA1B672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F40A-2A8F-43E7-9662-5C697F99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AAAA-C6C6-417D-ABBE-78554D2A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6E03-DBDD-4CA2-9941-8B3E1830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0E26-5996-4CAC-9119-16C1F3E3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258A-8A13-4808-993A-2C5E5313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128-5E30-4DA6-A828-D81F0F8D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AFD-6E0E-4F33-AA3E-9E31E2D8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D89-8841-432A-B012-7BA992F5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894-1FB9-49DE-A9CE-CC8AA470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220-658E-4C5C-B6AE-C91457C8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9D3-8A43-42C8-88D4-DCFB07CD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343F-9539-4AD7-A4AC-95E7669A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2736-6C0B-4698-9CA9-3B2E4AABBF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6974-6505-4D88-901B-E7A2B99F4C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124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INTRODUCTION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GENERAL OUTLINE OF THE PARAB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 Black"/>
              </a:rPr>
              <a:t>LESSON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SSION WEEK (9)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reparedness &amp; Emergency (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ise &amp; Foolish Virgins (Matthew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5:1-1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Opportunity, Fidelity and Reward (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Talents (Matthew 25:14-3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ounds (Luke 19:11-2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inal Judgment of the Kingdom (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heep &amp; the Goats (Matthew 25:31-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FORMAT FOR STUDYING THE PAR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dentification and Reading of the Par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nounce it General The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eek Out its Main Lesson or Less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scuss it Cont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eek to make Applic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eal with Problem Areas if there are 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arly Ministry Parables (14 in numb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ater Ministry Parables (20 in numb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assion Week Parables (9 in numb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ormat for studying the par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EARLY MINISTRY (1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 Theme: “Good News of the Kingdom of Go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onflict of the new and the old (4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uest of the Bridegro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2:18-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ew Patches and Old Gar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2: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ew Wine and Old wineski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9:1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reasurers new and o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13:51-5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EARLY MINISTRY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imilitudes of the Kingdom (7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Growing Seed (Mark 4:26-2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ustard Seed (Mark 4:30-3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Leaven (Luke 13:20-2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Hidden Treasure (Matt 13:3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earl of Great Price      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Matthew 13:45-4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Dragnet (Matthew 13:47-5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EARLY MINISTRY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sponsibility of Hearing (1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soils (Matthew 13:3-9; Mark 4:2-8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3-20; Luke 8:4-8, 11-15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ranslating Hearing into Doing (2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ittle Children in the Marketplac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Luke 7:31-3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ise and foolish Builder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7:24-2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Kingdom &amp; Presence of Evil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ares &amp; Wheat (Matt 13:24-30, 36-4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LATER MINISTRY (20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 Theme: “Children of the Kingdom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onditions of Discipleship (3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Empty House (Matthew 12:43-4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Uncompleted Tow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Luke 14:29-3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Warring King (Luke 14:31-3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s of discipleship (2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ief Seats (Luke 14:7-1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harisee and Publican (Luke 18:9-14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ATER MINISTRY (20)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orgiveness Among The Disciples (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wo Debtors (Luke 7:36-5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forgiving Servant (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8:21-3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ivileges and Duties of Disciples (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arren Fig Tree (Luke 13:6-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profitable Servant (Luke 17:7-10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sourcefulness &amp; foresight in using money (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just Stewart (Luke 16:1-1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ich Fool (Luke 12:13-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ich Man &amp; Lazarus (Luke 16:19-3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ATER MINISTRY (20)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rue Nature of Neighbors (1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ood Samaritan (Luke 10:25-39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 Love of God (1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aborers in the Vineyard (Matthew 20:1-16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od Answers Prayers (2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idnight Friend (Luke 11:5-13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Persistent Widow (Luke 18:1-8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od Loves the Lost (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ost Sheep (Luke 15:3-7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ost Coin (Luke 15:8-10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ost Son (Luke 15:11-2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Elder Brother (Luke 15:25-32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SSION WEEK (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 Theme: The Kingdom of God as Judg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est of Deeds (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wo Sons (Matthew 21:28-3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od’s Overtures Rejected (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ruel Vinedresser (Matthew 21:33-4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reat Supper (Luke 14:15-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riage Feast of King’s Son (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2:1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dding Garments (Matthew 22:11-1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0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5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0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22:54:12Z</dcterms:created>
  <dc:creator>Jerry Cantrell </dc:creator>
  <dc:description/>
  <dc:language>en-US</dc:language>
  <cp:lastModifiedBy>Jerry Cantrell </cp:lastModifiedBy>
  <dcterms:modified xsi:type="dcterms:W3CDTF">2006-02-07T04:50:46Z</dcterms:modified>
  <cp:revision>15</cp:revision>
  <dc:subject/>
  <dc:title>GENERAL OUTLINE OF THE PARABLES</dc:title>
</cp:coreProperties>
</file>