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05481-C213-4553-938C-A4EC176D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EEFC2-5CF6-431C-8CBA-62588947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5A68C-B887-41FA-A194-497D4F3A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70455-4611-448B-9CFB-2661E9AF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8C93-F3A2-48DF-8628-093DF9C5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D481-7207-4CA6-8033-57336C16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AF96-E919-4AC5-8A95-530A3331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B4A1-D14A-429E-9C6B-41897136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D619-E869-46B6-9A67-E0B4DB75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A6A4-59E5-4CE4-ADEE-CA413B80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ECA6-BE09-4E35-9973-92527B42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7D000-51E0-4B42-B05B-97D665A0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2254-C85F-4FFD-9CEA-DD8EF619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B277-D799-48BB-B3CD-88AD54C6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E0DC-A779-404A-BE4C-89D12D03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C5AA-6E09-4ABF-B4D5-41EBE0F1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09DB-16CB-4D1F-BF9E-8968E285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B410F-455B-4721-AC00-13A6C772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1B607-4A18-44F5-B103-B14CB38E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F3A57-D046-474C-833A-DD7E504B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8E538-500B-4D9E-B1C2-04B146FC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8A224-E556-46C5-B1A5-E803F6C7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EDB7F-C4FE-4ED4-896F-D9E767E6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B3F89-DBC3-46EE-9AC1-D5640CFD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310F-2136-4126-9175-D9CBE01ACE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256A-3EE9-418C-A3BD-C1064F5E21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1736640"/>
            <a:ext cx="8534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odoni MT Black"/>
              </a:rPr>
              <a:t>THE WISE AND FOOLISH BUILDER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6840" y="42670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nguiat Bk BT"/>
              </a:rPr>
              <a:t>Matthew 7:24-27, Luke 6:46-4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Translating hearing into do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Obedience must be added to hearing Jesus’ wor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1" lang="en-US" sz="6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44956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iven at the close to the Sermon on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ou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1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sermon demanded a positive response – it could not be ignore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1. The challenge of the sermon would not go awa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re is no neutral ground – no third opt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at challenge is a fitting conclusion to these last parables, for the response to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message is crucial, critical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Hearing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of the message – The Soi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Pondering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of the message – The Children at Pla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3.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Response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to the Message – The Build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In the latter part of the sermon, Jesus uses three sets of contrast to show the absolute necessity of obedience to His messag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Matthew 7:13-14 –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Broad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way leads to destruction,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and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Narrow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way leads to lif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Matthew 7:16-19 –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Good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Tree bearing good fruit and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Evil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Tree bearing evil frui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n the third is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Wise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a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Foolish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Build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Lip-service is never a substitute for actions.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Matthew 7:21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not everyone who says unto me Lord,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Lord…”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Luke 6:46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and why me Lord, Lord and do not the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things I say?”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Unreserved obedience is demanded by our Lord.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Romans 2:13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for it is not those who hear the law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who are righteous in God’s sight, but it those who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obey the law who will be declared righteous.”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There was no profit to the Hebrews because they did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not associate hearing the word with doing the word.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a. Hebrews 3:19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so we see they were not able to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    enter, because of their unbelief.”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b. Hebrews 4:6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…they did not go in because of their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    unbelief.”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James 2:2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a man is justified by what he does </a:t>
            </a:r>
            <a:r>
              <a:rPr b="0" i="1" lang="en-US" sz="2000" spc="-1" strike="noStrike">
                <a:solidFill>
                  <a:srgbClr val="ffffff"/>
                </a:solidFill>
                <a:latin typeface="Benguiat Bk BT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Benguiat Bk BT"/>
              </a:rPr>
              <a:t>not by faith only.”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All hearers are build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Both heard the same message – And it was the right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messag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re are only two kinds of build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a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Wise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– Builds on Jesus’ word; life modeled by His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morals; patterned by His exampl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b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Foolish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– Builds on foundations of his own choosing;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makes up his own life-style; establishes his prioriti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Hearers have two choices from which to choose their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foundat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a. “Puts them into practice” – obeys = rock – has a solid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foundation for lif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1)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Because Christ’s words are truth – John 8:31-32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2)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Because His words came from God – John 8:48-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50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3)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Because He the foundation on which God builds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church – Matthew 16:18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 “Does not put them into practice” – disobeys = Sand – Shifty,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unstabl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1) Rejection of Jesus’ teaching is a choic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2) This is the spirit and attitude of the sons of disobedient –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    Ephesians 2:2-3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3) If God doesn’t build the house, the laborers build in vain –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    Psalm 127:1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The floods will com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. 1 Peter 4:12 – </a:t>
            </a:r>
            <a:r>
              <a:rPr b="0" i="1" lang="en-US" sz="1800" spc="-1" strike="noStrike">
                <a:solidFill>
                  <a:srgbClr val="ffffff"/>
                </a:solidFill>
                <a:latin typeface="Benguiat Bk BT"/>
              </a:rPr>
              <a:t>“Do not be surprised at the painful trials…”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 2 Timothy 3:12 – If you live a godly life, you will suffer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5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ll houses are tested by flood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. Impartial – Same flood hits both house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 Each man’s works will be made known – 1 Corinthians 3:13;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cf. Hebrews 12:11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6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Only one builder will stand – the one who obeys!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. Only the obedient are saved – Hebrews 5:9; 2 Thessalonians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1: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 </a:t>
            </a:r>
            <a:r>
              <a:rPr b="0" i="1" lang="en-US" sz="1800" spc="-1" strike="noStrike">
                <a:solidFill>
                  <a:srgbClr val="ffffff"/>
                </a:solidFill>
                <a:latin typeface="Benguiat Bk BT"/>
              </a:rPr>
              <a:t>“And it fell with a great crash.”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– Everything was lost!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07:27:05Z</dcterms:created>
  <dc:creator>Jerry Cantrell </dc:creator>
  <dc:description/>
  <dc:language>en-US</dc:language>
  <cp:lastModifiedBy>Jerry Cantrell </cp:lastModifiedBy>
  <dcterms:modified xsi:type="dcterms:W3CDTF">2006-02-19T10:13:58Z</dcterms:modified>
  <cp:revision>7</cp:revision>
  <dc:subject/>
  <dc:title>THE WISE AND FOOLISH BUILDERS</dc:title>
</cp:coreProperties>
</file>