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5DB-5C7F-4FBB-A4A2-3C555C22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A4B-010A-4F09-82ED-0A6C1A8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0CA-8F8F-4662-A6F6-F82D982A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712-6433-4F70-BAAD-4D893A21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CC80-A265-456D-B4A8-D4C67197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5FDE-7461-4D9F-AAB8-062CF42F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CB22-802E-4119-9F82-3C3E52F7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202C-7C1B-413D-BCF9-FE2416B8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7D8-7FE6-45ED-B4CF-C57998F0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DB7-E78E-4A43-B1FE-41709717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7936-05AB-43CB-A262-C7F3428A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BD7-4C8E-48FF-A369-59FDB4C7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BC72-511B-41A3-9CF0-729B32F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C85D-99B8-41C5-A219-821B0A3F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043-89AB-4F7D-8F1D-9F2C303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75E-D226-4AB8-B665-9F556ABD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C6E7-AB76-40AE-8906-6AC1E608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121-50E6-4219-9667-860D4894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B38-3CE9-44D4-9DCA-9CDFDF0B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3AF-DCDD-4E78-9137-2FDE0B35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EC9-C815-49D0-9E6F-AE8F0E0D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6B0-81C1-45AB-9C0D-EC43F849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0B83-3A86-4FBD-BA82-290C079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774-024C-4C4B-9B06-35C98D7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F0F0-1E78-491B-B5B0-F863A347B7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51B3-7DEC-46ED-A77A-DE9D6F286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doni MT Black"/>
              </a:rPr>
              <a:t>THE PARABLE OF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Bodoni MT Black"/>
              </a:rPr>
              <a:t>LEAV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nguiat Bk BT"/>
              </a:rPr>
              <a:t>Matthew 13:3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Benguiat Bk BT"/>
              </a:rPr>
              <a:t>Luke 13:20-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ome of the effects Christianity had on the cultur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Love for one another (Jno 13:34-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35); love for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nemies – talk of Roman Empi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rucifixion was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lavery became a declining practice (1 Pe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2:18; Philm 16; Gal 3:28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ractice of Infanticide was repress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ames of brutality abolish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assaulted immor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hristianity elevated womanhoo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ivorced was curtail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A dignity was given to labor (Eph 4:28; 6:6; 2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ess 3: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Numerous benevolence &amp; educational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nstitutions result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essons Learn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hrist never indorsed monasticism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(order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f Monks). Christians are i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e worl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ut not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enguiat Bk BT"/>
              </a:rPr>
              <a:t>of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 the worl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Each faithful follower of Christ is leav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Conversely, if not faithful; still leaven, but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ith disastrous results.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“Leaven of the 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Pharise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This parable stresses the internal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activities of the Kingdom.  Shows how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worship &amp; fellowship enable us to blend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ourselves into the rich culture of Christian 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Benguiat Bk BT"/>
              </a:rPr>
              <a:t>lif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s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s:  The Kingdom is characterized by inner converting power through highly contagiou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is text is a parallel to Matthew 13:1 &amp; Mark 4:1, though Mark omits the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parable i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twi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to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ustard Seed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pa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emphasis of the Mustar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eed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xten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of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’s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details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essential to understanding the par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– (Gk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to boil;” “fervor;” “zeal.”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Generally a Biblical figure for impurity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corruption, evil, adulteration and ba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rk 8:15 – Leaven of Pharisees &amp; Her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1 Cor 5:6; Gal 5:9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 leaven leavens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whole lump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Lk 12: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Leaven of Pharisees (Hypocris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Ex 13:3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srael purges leaven as symbol of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Egyp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 Lev 2:11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was excluded from the meal-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 off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Not innately bad or evil – only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symbolically so when the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context so dem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Lev 2:11 (worship sacrific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Lev 2:12 – Allow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Lev 23:17 – Deman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Matt 13:33 – Leaven does to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dough what the Kingdom of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Christ does to the world –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    that is g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3. Simply because a figure may be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symbolic of evil in general Biblical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contexts, the same figure can stand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for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a. 1 Pet 5:8 – Satan seen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roaring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lion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in Rev 5:5 Christ i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on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Juda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. Hos 7:11 –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Ephraim…a silly dove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in Matt 10:16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same dove is praised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 harmless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c. Psalm 37:35-36 – Wicked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like green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tree in native soil”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but Psalm 1:3 sees 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nguiat Bk BT"/>
              </a:rPr>
              <a:t>       righteous as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“tree planted by streams of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ernhardMod BT"/>
              </a:rPr>
              <a:t>        water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ree measures of flour =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ephah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in Hebrew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ev. 5:11 – equal to 2 qua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Amount prepared at one time for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o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woman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: Does not represent Holy Spirit or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ff"/>
                </a:solidFill>
                <a:latin typeface="Bodoni MT Black"/>
              </a:rPr>
              <a:t> OF THE PARABLE </a:t>
            </a:r>
            <a:r>
              <a:rPr b="0" i="1" lang="en-US" sz="3200" spc="-1" strike="noStrike">
                <a:solidFill>
                  <a:srgbClr val="ffffff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ome expositors make the interpretation foreign to intent of the me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y would mak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always repres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evil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e woman who hid the leaven would be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postat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Hiding the leaven would represent evil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likens the leaven to the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This is contrary to Mustard S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his would make the Kingd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enguiat Bk BT"/>
              </a:rPr>
              <a:t>leavened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with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ev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Until the whole is leavened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edicts the gospe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preached in all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of this parable is the same as Mustard Seed – Small beginnings can have big res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show another side of the actio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y which the Kingdom spre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ustard Seed gives an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incentiv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view of growth of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Little Leaven”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f. Gal 5:9 – Spread of Gospel had profound effect on the culture of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4:05:51Z</dcterms:created>
  <dc:creator>Jerry Cantrell </dc:creator>
  <dc:description/>
  <dc:language>en-US</dc:language>
  <cp:lastModifiedBy>Jerry Cantrell </cp:lastModifiedBy>
  <dcterms:modified xsi:type="dcterms:W3CDTF">2006-01-24T17:10:47Z</dcterms:modified>
  <cp:revision>9</cp:revision>
  <dc:subject/>
  <dc:title>THE PARABLE OF THE LEAVEN</dc:title>
</cp:coreProperties>
</file>