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A88-AB62-43B4-A01E-86A8B3F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44C-0EBB-4329-A228-B078E2E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A37-4313-4D00-934B-BC27C7B9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186-054B-41E2-B783-50A9806B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B78C-CE9D-468E-B052-D986423C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89E6-A4DF-4552-8FD7-64618742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166-5DE8-46BC-B42F-0F6B6194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CDA7-739E-40FC-8E95-2773693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A210-AA2F-49FF-A1DF-8721B6C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AF44-A558-4D3F-8A9B-2E52BD5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EB6F-1B94-460C-9BDE-8735157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B0B-A3E2-44A0-A033-197D4500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393-B3F8-4A31-8D45-73B9B50C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52F4-93DF-4DD4-A733-C55109F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4AAF-D770-4F86-8F0F-1A421FF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7EF4-2A59-4950-B066-FE8E54CD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9CB2-DBBC-4A7D-BEA1-8E9B5456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BFC-A673-48E3-8B90-35E76314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231-59A2-4259-974C-B6EAC8A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E62-4487-44B9-B6E3-0DD5D9F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927-03AA-4319-96F6-35AD9A99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3D0-B547-45F2-917C-29035DC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2D1-D7CE-463F-A91C-136788F6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DD9-2786-4205-A326-379704A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9854-6C17-447A-820E-342AB34D47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8A2-1FF1-4082-8C0C-1EA9CDA0CA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5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WINE &amp; OLD WINESKI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tthew 9:17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Mark 2:22; Luke 5:37-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Teaching / Doctr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. 1:27; Acts 17: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Commandme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John 18:3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ear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ev. 2: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alk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&amp; Living Wa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0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we ser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6: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Spiri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7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No one after drinking old wine wants the new, for he says, the old is better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Lk. 5:39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recognizes man’s reluctance to giv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p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Old Path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, with its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evotions for the novelty of the new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ncharted ways of the new teac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knew the old law viewed the new as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uspec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aditions die slowly; rejection of the new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rows out familiarity of the old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Wine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and 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Skin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hristian system offended the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Hebrew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the Jew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good old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r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ly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toration of Israel had to be the wa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go (Acts 1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prophets and the La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ok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later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ing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nd of the ag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Judais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Isa 2:2-4; Joel 2:28ff; Dan 2:44ff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Hebrews spea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orl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nd its new priestly system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ving 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 2:5; 9: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rist’s teaching were revolutionary, but iconoclastic in the destruction or denial of their Hebrew ro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4:22 –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Salvation is from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Jews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not the Samaritans, muc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ish Christians may still b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zealous of the law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Acts 21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may still enjo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ld w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long as they didn’t impose it o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Cf. Rom. 14:1-12; Gal. 2:3-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Incompatibility of the Old and the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revious two parables – The question is still FAS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truth but with a new empha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cloth and the new win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re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s of the ‘Pearl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reat Price’ and the ‘Hidde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reasure’ teach the sam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problems present in this parab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wine is lost along wi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life it off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old skins are burst and los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both are significant with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ir own spheres of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life in Christ is lost when forced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ms (Galatians 5:2-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John 1:17. (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ruth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s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reality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aw was a system of shadows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it rituals were prophetic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reality” and was significant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r, as far as, and unti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urther)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brews 9: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133720"/>
          <a:ext cx="8763120" cy="4032000"/>
        </p:xfrm>
        <a:graphic>
          <a:graphicData uri="http://schemas.openxmlformats.org/drawingml/2006/table">
            <a:tbl>
              <a:tblPr/>
              <a:tblGrid>
                <a:gridCol w="1752120"/>
                <a:gridCol w="1752120"/>
                <a:gridCol w="1754280"/>
                <a:gridCol w="1752120"/>
                <a:gridCol w="1752480"/>
              </a:tblGrid>
              <a:tr h="19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L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fection 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Ear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lory To 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Impossi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to At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Frustration &amp; Bond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Faith In G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 G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ly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vail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ssuranc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&amp; Free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1523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NTRAST BETWEEN OLD &amp; NEW ON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hat If Christianity is viewed as a new legal system of Justification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have the same frustration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ans 8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no condemnation…’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Romans 7:24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O wretched man… who will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deliver me?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 Gal. 3:10-12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Christ redeemed us from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the curs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lose our assurance in Chris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. 5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being justified… we have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peac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1 Jno 5:13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…written that we may know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we have eternal lif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or destroy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f the Law – the old skins are burst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ined of their purpose (Gal. 3:22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oss – Gal. 2:21; 3:13-1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bedience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Salvation would be b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performance (Rom 4:2-5)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uld exclude all men (Rom 3:9-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We claim justification by fai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Titus 3:4-7; Eph. 2:5-1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In Chr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Creatio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2 Cor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:17; Gal. 6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 Man In Chris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Gal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:28; Eph. 2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Jerusalem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Rev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1:2; Heb. 12:2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us,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he fir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ld)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passed away… all 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new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9:19:05Z</dcterms:created>
  <dc:creator>Jerry Cantrell </dc:creator>
  <dc:description/>
  <dc:language>en-US</dc:language>
  <cp:lastModifiedBy>Jerry Cantrell </cp:lastModifiedBy>
  <dcterms:modified xsi:type="dcterms:W3CDTF">2006-02-13T10:53:50Z</dcterms:modified>
  <cp:revision>16</cp:revision>
  <dc:subject/>
  <dc:title>NEW WINE &amp; OLD WINESKINS</dc:title>
</cp:coreProperties>
</file>