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5FC-E3E5-487C-8836-B2FBCDEB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BD5-2255-41C7-BB8A-BAEF415F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740-73CA-4C1F-A389-A10C3067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C5A-54FE-4AC8-8F0F-606F9C16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4E84-C7D7-4568-9EE9-05EC5CCB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82A9-D096-4E42-8C42-8F10F8E9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1A7C-E0FB-4D66-A3CF-69DBB06B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7B68-1AF0-46A0-9FFC-5B8ABD3C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FB57-8AD7-450B-B1E7-40731FDB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981C-536D-447A-8053-F399FACB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BA0F-6618-4F9B-9763-8F865D87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3D0-3110-48DC-8636-32D2B88C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D8D7-932A-4279-9EDF-F008EA2E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1CF1-F5AA-4954-B811-48D379F1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2B4A-C81A-4E99-BC7B-0DADC35A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B5E1-623F-441A-A4C8-8F4B714D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ED77-AE37-4217-8290-B9B0274E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ED5-1495-434A-B126-04443F13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A12-4D9B-496B-96C3-60BEF02B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A30-C343-40D0-94E3-C699C5BC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729-4198-44C7-AD2D-4BE31BC1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F85-DE1E-4BB5-8EEE-3E39E0E9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961-250A-422B-956E-764B0402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BC2-C90F-4469-ADB1-B41583E8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31C0-9805-4535-AD03-E9CF32D7EE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F232-2CA8-433C-8A0D-A32A968120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THE PARABLE OF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Bodoni MT Black"/>
              </a:rPr>
              <a:t>LEAV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tthew 13:3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Luke 13:20-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ome of the effects Christianity had on the culture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Love for one another (Jno 13:34-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5); love for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nemies – talk of Roman Empi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rucifixion was abolish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lavery became a declining practice (1 Pe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:18; Philm 16; Gal 3:28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Practice of Infanticide was repress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ames of brutality abolish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ristianity assaulted immoralit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ristianity elevated womanhoo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ivorced was curtail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dignity was given to labor (Eph 4:28; 6:6; 2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ss 3:10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Numerous benevolence &amp; educational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nstitutions result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essons Learned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hrist never indorsed monasticism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(order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of Monks). Christians are in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he world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ut not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Benguiat Bk BT"/>
              </a:rPr>
              <a:t>of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 the worl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Each faithful follower of Christ is leave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onversely, if not faithful; still leaven, but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ith disastrous results. 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“Leaven of the 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Pharisees.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his parable stresses the internal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ctivities of the Kingdom.  Shows how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orship &amp; fellowship enable us to blend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ourselves into the rich culture of Christian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if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s of the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s:  The Kingdom is characterized by inner converting power through highly contagiou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is text is a parallel to Matthew 13:1 &amp; Mark 4:1, though Mark omits the pa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 i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wi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to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ustard See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pa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emphasis of the Mustar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d w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exten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’s grow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lanation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detail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essential to understanding the par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– (Gk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to boil;” “fervor;” “zeal.”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Generally a Biblical figure for impurity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corruption, evil, adulteration and ba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influ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Mark 8:15 – Leaven of Pharisees &amp; Her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1 Cor 5:6; Gal 5:9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 leaven leavens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whole lump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Lk 12:1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Leaven of Pharisees (Hypocris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Ex 13:3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srael purges leaven as symbol of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Egyp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 Lev 2:11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t was excluded from the meal-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offe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t innately bad or evil – on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symbolically so whe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text so dem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Lev 2:11 (worship sacrific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Lev 2:12 – Allow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Lev 23:17 – Demand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Matt 13:33 – Leaven does t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dough what the Kingdom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Christ does to the world – An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that is g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3. Simply because a figure may b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symbolic of evil in general Biblical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contexts, the same figure can stand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for goo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1 Pet 5:8 – Satan seen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roaring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lion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in Rev 5:5 Christ i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lion of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Judah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 Hos 7:11 –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Ephraim…a silly dove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in Matt 10:16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same dove is praised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harmless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 Psalm 37:35-36 – Wicked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like green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tree in native soil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Psalm 1:3 sees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righteous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tree planted by streams of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water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ree measures of flour =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ephah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in Hebrew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ev. 5:11 – equal to 2 qu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Amount prepared at one time for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o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woma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: Does not represent Holy Spirit or Chu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ome expositors make the interpretation foreign to intent of the mess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y would mak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lways represe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evi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e woman who hid the leaven would be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apostate chu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Hiding the leaven would represent evil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esus likens the leaven to the Kingd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is is contrary to Mustard Se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This would make the Kingdo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ed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it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ev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Until the whole is leavened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edicts the gospe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reached in all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essage of this parable is the same as Mustard Seed – Small beginnings can have big res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show another side of the actio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y which the Kingdom spre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ustard Seed gives a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incentive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view of growth of churc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Little Leaven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Gal 5:9 – Spread of Gospel had profound effect on the culture of the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4:05:51Z</dcterms:created>
  <dc:creator>Jerry Cantrell </dc:creator>
  <dc:description/>
  <dc:language>en-US</dc:language>
  <cp:lastModifiedBy>Jerry Cantrell </cp:lastModifiedBy>
  <dcterms:modified xsi:type="dcterms:W3CDTF">2006-01-24T17:10:47Z</dcterms:modified>
  <cp:revision>9</cp:revision>
  <dc:subject/>
  <dc:title>THE PARABLE OF THE LEAVEN</dc:title>
</cp:coreProperties>
</file>