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02E7-8645-4BF6-B935-8C58C861B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59E4-BA25-45A7-A70E-3F3865CF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26C5-0859-458E-95F5-96406A3AE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8E20-3922-40A0-85B4-61F8F264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BF97-A04A-4681-A713-1AE4BFA4B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337C-2EDB-4656-8F8D-29D10E70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0ABF-1ECD-4CBA-A532-B656849A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2A6B-5E45-4936-B1CF-AE45FF71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BBFE-D5BB-44FF-8B97-3E6CFA1B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E5A7-9C6F-444B-A354-DEEEDA22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3483-F1B3-4604-AB05-C4B68A26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D42A-C36C-4A30-98BC-35467841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1B17-5663-4CD9-AEDF-B7C5DC60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0649-5DA1-41E2-81E7-D8BAE047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262E-7974-4B02-BBD9-C178CCB1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0AB2-D3A9-4C62-B4FD-5AF47D0C2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5A9D-BF5A-40DA-A829-304895AD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B319-CFD1-47EA-963A-B0E9220F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314C-A0C4-40E8-97F8-D4EF25E6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3CBD-EA8B-4CA0-9EE0-84111863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1E13-5259-49CD-86F6-7A91B83D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7729-F286-4C9A-AB7E-A1568A31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F82F-AD8F-4E56-906F-B613DEB4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36CD-2B44-4AB5-9C20-9DB1CD90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D348-51C0-45A6-9DAE-9C744C649A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5ED4-27C4-4B47-8F86-7601DE12EF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 MT Black"/>
              </a:rPr>
              <a:t>LESSON 12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Bodoni MT Black"/>
              </a:rPr>
              <a:t>THE PARABLE OF THE SOILS (THE SOWER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77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Benguiat Bk BT"/>
              </a:rPr>
              <a:t>MATTHEW 13:1-9, 18-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MARK 2: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Luke 8:4-8, 11-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Whoever does not have, even what he has will be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taken from him.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rk 4:2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Represents people who had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ee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sown in their lives, but it did not la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From the various soi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Wayside Soil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birds took it away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Rocky Ground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lacked earth and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    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moisture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Thorny Ground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Choked live out and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took it away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4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9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4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Power of Lif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is in the Seed –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Must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be understood, accepted, help on 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soils represent the hearts of men, and also their respon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Wayside Soil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vil one (Satan, Devil) came. He took it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way. Word concerns him when it get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nto man’s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atan’s work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easy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on hard hea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Man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hardens his own heart;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Satan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take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way the se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How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Why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the heart is harde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Prejudice – cf. 2 Thess. 2:10-11 –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Refused to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   love the truth…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Conviction of present, but wrong religiously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– Romans 10:1-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 Love of sin or pleasure – Hebrews 3:13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encourage one another, so you will not be hardened by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    sin’s deceitfulnes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 Stubborn in wrong or sin -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stiff-necked,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   uncircumcised…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(Acts 7:5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e. Procrastination –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today, if you will hear his voice,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   harden not your heart.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(Hebrews 4:7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. Pride based on fear –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…many believed…but would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   not confess their faith for fear…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(John 12:42-43)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Benguiat Bk BT"/>
              </a:rPr>
              <a:t>Rocky Places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– Quick life; quick deat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Two Problems –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Benguiat Bk BT"/>
              </a:rPr>
              <a:t>Shallow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(Matt 13:5);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Benguiat Bk BT"/>
              </a:rPr>
              <a:t>Dry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(Lk. 8:6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etter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Benguiat Bk BT"/>
              </a:rPr>
              <a:t>not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to have known – 2 Pet. 2:21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Dangers come when one stops believing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a. Hymenaeus &amp; Alexander (2 Tim 1:19-20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. Some depart from faith (1 Tim 4:1-2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c. Love of money leads some away (1 Tim.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1:6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d. Demas turned back from Paul &amp; the faith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(2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Tim. 4:10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must go on to maturity –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erfe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Hebrews 5: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1 Peter 2:1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They endure for awhile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tt 13:2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Among the tho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No man can serve two masters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tt 6:19-2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Matthew 12:30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not with him, you are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against him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I John 2:15-17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Love not the world…”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Thorns that choke the seed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Cares of the world (Matt. 13:2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) Making a living; seeking comfo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) Loving the world – 1 John 2: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) Demas loved this present world (2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im. 4:1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Deceitfulness of riches (Matt 13:2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) 1 Tim. 6:10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Love of money is root of all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kinds of evil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) Rich young ruler – Mark 10:17-2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Lust of other things (Mark 4:19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 Could be power, prestige, position,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   privilege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 Could be possessions, status, comforts,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   foods, clothing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c. Rich man – Luke 16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Pleasures of this life (Lk. 8:14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 Moses – knew treasures of Egypt could not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   be compared to God’s reward (Heb 11:25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 Commanded to withdraw from people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 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   who are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lovers of self…”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(2 Timothy 3:2-5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The Good Soil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– Its Characteristic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ood: deep, moist, warm, already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erti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As to people: grateful for God’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blessings; fervent; already fruitfu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Distinguish good from evil (Heb 5:1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epresents honest hearts: Genuine,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incere, honorable and appro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Accepts the word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rk 4:20). Make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appl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They accept it and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Produce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k 4:2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ruitful: Produces fruit in personal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Matthew 13:23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He produces a crop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John 15:5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Abide in me, me in you, bear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much fruit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 Luke 8:15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By patience bring forth fruit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ome 100, 60 and 30 fold – It i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easured by individual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Cf. Matt. 25:15; Eph. 4: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2 Corinthians 8:12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For if the willingness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is there, the gift is acceptable according to what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one has, not according to what he does not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hav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ruitfulness is a promise, and, it is an assignme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onclusion – Luke 8: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e must use what we have.  Go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xpects fru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f we do not use it, God will take it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w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f. Matthew 25:28-3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Responsibility of Hearing God’s Wo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 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“Take Heed How You Hear!”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Jesus first parable from the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Benguiat Bk BT"/>
              </a:rPr>
              <a:t>boat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which served as His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Benguiat Bk BT"/>
              </a:rPr>
              <a:t>pulpit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“Listen; Hear” – First and last words according to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Mark’s account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The Teacher has great responsibility, but so does the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hearer.  Emphasis here on hearer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Benguiat Bk BT"/>
              </a:rPr>
              <a:t>public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at large is presented in this parable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Matthew 12, Jesus cast a demon from a man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a. Pharisees say it was by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Benguiat Bk BT"/>
              </a:rPr>
              <a:t>Beelzebub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, but Jesus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   powerfully refutes their argument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b. Later they ask for a miracle (a sign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1) Jesus calls them </a:t>
            </a:r>
            <a:r>
              <a:rPr b="0" i="1" lang="en-US" sz="2100" spc="-1" strike="noStrike">
                <a:solidFill>
                  <a:srgbClr val="ffffff"/>
                </a:solidFill>
                <a:latin typeface="BernhardMod BT"/>
              </a:rPr>
              <a:t>“an evil and adulterous generation.”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2) The only sign they would receive was that of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       Jonah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c. The same day (Matthew 13) He gives the first parable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   dealing with attitude toward God’s Word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Benguiat Bk BT"/>
              </a:rPr>
              <a:t>The Sower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” – It Jesus in the context – Later it is apostles and anyone who teaches the word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1 Corinthians 3:6 – Paul sees himself as a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sower –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I planted…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1 Corinthians 9:11 –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If we have sown spiritual seed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among you…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Benguiat Bk BT"/>
              </a:rPr>
              <a:t>The Seed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” – Luke 8:11 –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The seed is the word of God.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Mark 4:14 –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The farmer sows the word.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Matthew 13:19 –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…the evil one snatches away what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was sown…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1 Peter 1:25 –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But the word of the Lord stands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forever. And this the word that was preached to you.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The Waysid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” – A traveled road; path; generally hard; packed down by trav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ohn 14:6 – Same word Jesus uses;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I am the wa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cts 18:26 – Priscilla &amp; Aquila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aught Apollos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…the way of the Lord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more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adequatel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cts 22:4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I persuaded followers of this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way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cts 1:12 – It was even used referring to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 Sabbath’s Day’s journey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…a Sabbath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Day’s walk from the city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8839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The Rocky Places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” – Stony ground; full of rocks (probably fruitless land even to farmer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V. 5 –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where it did not have much soil.”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(Gk. Says, there was not much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arth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V. 6 – Whatever did germinate, soo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ied,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because they had no root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Among Thorns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” – Bramble-bush; bri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crown of thorns on Jesus’ hea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as of the same generic typ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tthew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7:29; John 19: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ost frequently found in vines an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ushes, rather than larger pl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He who has ears, let him hear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v. 9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is means, Look for the lessons thes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igures pres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n learn from the less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Seed-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Word of God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- As it relates to the Kingd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t is the Gospel – Good New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Matthew 13:17 – Prophets, righteous men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esired to hear what they hea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Romans 1:16 – Power of G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2 Timothy 1:10 – Salvation has been revealed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through the Gosp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Wor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produces only the Kingdom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of G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cts 2:36-41 – Church started through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reaching the Wo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Genesis 1:11 – Seed brings forth after is ki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Galatians 6:7, 8 – What you sow, you rea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t is importan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what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we hear – Be sure it is truth – Mark 4:2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olossians 2:8 – Be careful…hollow and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eceptive philosoph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 John 7-8 – Many deceivers…have gone out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nto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t is importan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how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we hear – What we have can be taken from us – Luke 8:1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good soil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understood the word – Mark 4:20,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f we hold it firm, Luke 8:1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Christ assures us we will bring forth frui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Matthew &amp; Mark says the soils will,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Yield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    fruit, some a hundred fold, some sixty, some thirty.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5:02:35Z</dcterms:created>
  <dc:creator>Jerry Cantrell </dc:creator>
  <dc:description/>
  <dc:language>en-US</dc:language>
  <cp:lastModifiedBy>Jerry Cantrell </cp:lastModifiedBy>
  <dcterms:modified xsi:type="dcterms:W3CDTF">2006-02-19T06:55:54Z</dcterms:modified>
  <cp:revision>26</cp:revision>
  <dc:subject/>
  <dc:title>LESSON 12 THE PARABLE OF THE SOILS (THE SOWER)</dc:title>
</cp:coreProperties>
</file>