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FDE4-AACF-4C8E-A926-9517C0CC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12D1-4341-47A8-924F-51C963B4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EC7F-3AFF-4A15-B01C-29EACF68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EE03-5E46-41C2-B825-2FF125EB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C845-DDAA-4C35-BA7F-1B207BB8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40CF-257E-4892-A407-4E517562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1BB0-E996-4987-BD8F-61475FEC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0144-718B-4D81-BEA2-E94A4888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3AFE-34D9-4225-8D78-881A6F6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146B-8125-40FC-94DF-9A19E53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24A3-881F-422E-B245-D1A12DA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34AB-B2A6-4675-84A8-B4379A6C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B293-DD0A-4BF0-B883-0C384F6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C8A6-8BD1-4276-9C2D-78C04EF4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160C-8EC9-403E-958B-F39AF67E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8280-A56E-41CF-A8DF-F6A8414E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3B7-63CA-4D40-B941-803B3D9C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7084-725C-41A3-9272-5A4D426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D9AE-5554-4299-8825-085CD98B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13FC-AA86-4BB6-BD82-70A56446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CC4E-B169-4A05-BD7E-8ED30D8E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B16D-1B7A-4F09-8B04-FDAA3F1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1BBA-1FE3-40C6-8FF6-C792BC8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74E5-D3FC-473A-962A-15DC0B1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DF9-56A5-4D5B-A3BD-1FD315517F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B249-C7A6-4F86-BFB8-EDFAF32FF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THE WISE AND FOOLISH BUIL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267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nguiat Bk BT"/>
              </a:rPr>
              <a:t>Matthew 7:24-27, Luke 6:46-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Translating hearing into do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Obedience must be added to hearing Jesus’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iven at the close to the Sermon o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u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sermon demanded a positive response – it could not be ignor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The challenge of the sermon would not go a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is no neutral ground – no third op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at challenge is a fitting conclusion to these last parables, for the response to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message is crucial, critic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Hea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So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Ponde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Children at Pl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Respon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o the Message – Th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In the latter part of the sermon, Jesus uses three sets of contrast to show the absolute necessity of obedience to His 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3-14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Broa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destruction,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nd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Narrow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6-19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Goo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good fruit an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evil fru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n the third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ip-service is never a substitute for actions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7:21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not everyone who says unto me Lord,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Lord…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uke 6:4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nd why me Lord, Lord and do not the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things I say?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Unreserved obedience is demanded by our L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Romans 2:13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for it is not those who hear the law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who are righteous in God’s sight, but it those wh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obey the law who will be declared righteous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re was no profit to the Hebrews because they did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not associate hearing the word with doing the w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Hebrews 3:19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so we see they were not able t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enter, because of their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Hebrews 4: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…they did not go in because of their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ames 2:2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 man is justified by what he does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not by faith only.”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ll hearers ar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oth heard the same message – And it was the right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are only two kinds of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Jesus’ word; life modeled by Hi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orals; patterned by His examp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foundations of his own choosing;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akes up his own life-style; establishes his prioriti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Hearers have two choices from which to choose their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found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“Puts them into practice” – obeys = rock – has a soli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foundation for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Christ’s words are truth – John 8:31-3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is words came from God – John 8:48-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5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e the foundation on which God build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church – Matthew 16: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“Does not put them into practice” – disobeys = Sand – Shifty,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unstab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) Rejection of Jesus’ teaching is a choi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) This is the spirit and attitude of the sons of disobedient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Ephesians 2:2-3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3) If God doesn’t build the house, the laborers build in vain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Psalm 127: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floods will com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1 Peter 4:12 –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Do not be surprised at the painful trials…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2 Timothy 3:12 – If you live a godly life, you will suff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houses are tested by flood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Impartial – Same flood hits both hous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Each man’s works will be made known – 1 Corinthians 3:13;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cf. Hebrews 12: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Only one builder will stand – the one who obey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Only the obedient are saved – Hebrews 5:9; 2 Thessalonians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1: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And it fell with a great crash.”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– Everything was lost!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05Z</dcterms:created>
  <dc:creator>Jerry Cantrell </dc:creator>
  <dc:description/>
  <dc:language>en-US</dc:language>
  <cp:lastModifiedBy>Jerry Cantrell </cp:lastModifiedBy>
  <dcterms:modified xsi:type="dcterms:W3CDTF">2006-02-19T10:13:58Z</dcterms:modified>
  <cp:revision>7</cp:revision>
  <dc:subject/>
  <dc:title>THE WISE AND FOOLISH BUILDERS</dc:title>
</cp:coreProperties>
</file>