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197-776D-4416-BC3C-EF4B28F1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E2C-76DB-441C-82B1-465627A0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EB53-599E-45E2-A21C-DE850E20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7EF-A6E3-4294-BEF5-D35D3510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BC33-AF02-4316-B72F-F776E857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192A-81C5-4FA4-AF5C-BE7D4B9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6C9A-780B-46FB-B86E-0CA29821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1282-1F5B-45E3-9295-55BD3CA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0E6F-EA45-4609-A887-1B13BEB6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726D-DAFC-4661-82F3-666F94A0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33C8-D7B9-4380-A89C-7A0D5746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5F1-C844-4DEC-9602-A59841B1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6209-D154-4B6E-B1A9-AB92275F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3E8E-EB40-4613-A0B5-36630E34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31BB-BBA0-441E-A24E-81C61DB3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4ABE-CE88-460E-98B8-BAED8A3F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56F9-A83B-41BA-824B-DEF6E746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B36-DFDD-45A4-A4BA-23001C4D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AC9-AA72-4150-BE27-66E5DE70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4B6-0042-416B-95D7-27524BDF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FED-6353-438D-9B6F-6C60FB4C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F0E-51FC-4B5C-86AB-BFDBEC93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7AA-F079-4C62-8457-98FDFED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B34-23D4-4F77-84DF-E4FE46D9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24E1-E1B7-4E00-BC27-3F209B4417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5971-B4F1-42DC-BA47-C1B3FA18D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SYLLAB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THE PAR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AD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Read each of the parables two times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MORY VER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78: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14:33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9: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2: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3:20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13: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SSIGNMENTS AND EX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ESEARCH PAP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rite a two-page essay o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aning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f one of the list 45 Parables (your choi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XA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e Exam – a F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ELF-EXAM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omplete all your Self-Exa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ll Chapters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am question will come from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ques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GR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600" cy="4689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AD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MEMORY VERS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SEARCH PAP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SELF-EXAM QUES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1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INAL EX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6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57:56Z</dcterms:created>
  <dc:creator>Jerry Cantrell </dc:creator>
  <dc:description/>
  <dc:language>en-US</dc:language>
  <cp:lastModifiedBy>Jerry Cantrell </cp:lastModifiedBy>
  <dcterms:modified xsi:type="dcterms:W3CDTF">2006-02-06T23:29:51Z</dcterms:modified>
  <cp:revision>4</cp:revision>
  <dc:subject/>
  <dc:title>SYLLABUS</dc:title>
</cp:coreProperties>
</file>