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00EE-7EBC-48F1-A5AE-41B1331BE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BBE4-7E3C-4032-8575-EFE543537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5FF1-12AF-4A9A-8B65-12A20C8F8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AC8A-554C-40FC-88A8-1EC44B6F0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96857-1E63-4F46-BEE6-B553D2F7B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C8673-00BA-4202-9946-85840D960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1EEE3-7578-45C7-A750-ED1B9012B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9E556-80A9-4097-96BA-0EA3225E5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FF548-696C-4313-85AF-94C69C63C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FBA67-BAE3-4034-915D-430B9ABD1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4035A-2D48-471A-B44C-6C368F6C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DB12-3FE1-442C-89E2-800B6A224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EB6E9-17A6-40F8-B6D9-ECD6D83F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321D3-3E41-4CDA-A4A2-63A5695A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512D4-0C55-4CB8-8F8A-0BA26818E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EE9BB-5B66-4B88-B5BF-F43EDDD3E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10280-4751-419E-B5AD-896A3BDFC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B123-2DAA-4192-A53B-C9269E7D8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E344-F6A2-491D-B821-FB52A1C20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F3AE-6DFF-4A80-808E-CC86E1DD7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713E-A927-4FF0-BBB5-DBFE3239C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412C-757B-49AD-BB7F-CAD8436C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96F8-5CE3-4203-9BBE-B08E61E1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6E3A-8D67-4558-ACEC-03966A70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B78C2-55C7-442A-85E8-BF7A0948D95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A87E5-79AD-4B56-BC7E-6F13FA4E431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 MT Black"/>
              </a:rPr>
              <a:t>LESSON 12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Bodoni MT Black"/>
              </a:rPr>
              <a:t>THE PARABLE OF THE SOILS (THE SOWER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295280" y="3886200"/>
            <a:ext cx="64771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Benguiat Bk BT"/>
              </a:rPr>
              <a:t>MATTHEW 13:1-9, 18-2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enguiat Bk BT"/>
              </a:rPr>
              <a:t>MARK 2: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enguiat Bk BT"/>
              </a:rPr>
              <a:t>Luke 8:4-8, 11-1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Whoever does not have, even what he has will be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taken from him.”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Mark 4:25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 Represents people who had t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seed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sown in their lives, but it did not la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 From the various soil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)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Wayside Soil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birds took it away…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)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Rocky Ground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lacked earth and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       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moisture…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3)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Thorny Ground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Choked live out and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took it away…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9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4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9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4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9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4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Power of Life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is in the Seed –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Must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be understood, accepted, help on 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soils represent the hearts of men, and also their respon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Wayside Soil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Evil one (Satan, Devil) came. He took it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way. Word concerns him when it gets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into man’s hea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Satan’s work i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easy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on hard hear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Man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hardens his own heart;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Satan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takes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way the see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4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How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an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Why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the heart is harde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 Prejudice – cf. 2 Thess. 2:10-11 –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Refused to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    love the truth…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 Conviction of present, but wrong religiously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– Romans 10:1-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. Love of sin or pleasure – Hebrews 3:13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encourage one another, so you will not be hardened by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     sin’s deceitfulness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d. Stubborn in wrong or sin -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stiff-necked,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    uncircumcised…”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(Acts 7:51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e. Procrastination –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today, if you will hear his voice,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    harden not your heart.”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(Hebrews 4:7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f. Pride based on fear –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…many believed…but would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    not confess their faith for fear…”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(John 12:42-43)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Benguiat Bk BT"/>
              </a:rPr>
              <a:t>Rocky Places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– Quick life; quick death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Two Problems –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Benguiat Bk BT"/>
              </a:rPr>
              <a:t>Shallow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(Matt 13:5);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Benguiat Bk BT"/>
              </a:rPr>
              <a:t>Dry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(Lk. 8:6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Better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Benguiat Bk BT"/>
              </a:rPr>
              <a:t>not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to have known – 2 Pet. 2:21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3.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Dangers come when one stops believing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a. Hymenaeus &amp; Alexander (2 Tim 1:19-20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b. Some depart from faith (1 Tim 4:1-2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c. Love of money leads some away (1 Tim.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   1:6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d. Demas turned back from Paul &amp; the faith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   (2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Tim. 4:10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2280" y="182844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e must go on to maturity –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erfe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 Hebrews 5: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 1 Peter 2:1-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They endure for awhile”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Matt 13:2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Among the thor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No man can serve two masters”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Matt 6:19-2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 Matthew 12:30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not with him, you are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   against him…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 I John 2:15-17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Love not the world…”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5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0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0" dur="5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5" dur="500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. Thorns that choke the seed ou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 Cares of the world (Matt. 13:22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) Making a living; seeking comfor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) Loving the world – 1 John 2: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3) Demas loved this present world (2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im. 4:10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 Deceitfulness of riches (Matt 13:22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) 1 Tim. 6:10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Love of money is root of all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kinds of evil…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) Rich young ruler – Mark 10:17-27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3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Lust of other things (Mark 4:19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a. Could be power, prestige, position,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    privilege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b. Could be possessions, status, comforts,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    foods, clothing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c. Rich man – Luke 16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4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Pleasures of this life (Lk. 8:14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a. Moses – knew treasures of Egypt could not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    be compared to God’s reward (Heb 11:25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b. Commanded to withdraw from people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  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    who are </a:t>
            </a:r>
            <a:r>
              <a:rPr b="0" i="1" lang="en-US" sz="2500" spc="-1" strike="noStrike">
                <a:solidFill>
                  <a:srgbClr val="ffffff"/>
                </a:solidFill>
                <a:latin typeface="BernhardMod BT"/>
              </a:rPr>
              <a:t>“lovers of self…”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(2 Timothy 3:2-5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The Good Soil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– Its Characteristic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Good: deep, moist, warm, already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ferti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 As to people: grateful for God’s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blessings; fervent; already fruitfu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 Distinguish good from evil (Heb 5:14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Represents honest hearts: Genuine,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sincere, honorable and approv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Accepts the word”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Mark 4:20). Makes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applic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 They accept it and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Produce”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Mk 4:20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Fruitful: Produces fruit in personal lif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 Matthew 13:23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He produces a crop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 John 15:5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Abide in me, me in you, bear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   much fruit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 Luke 8:15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By patience bring forth fruit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Some 100, 60 and 30 fold – It is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measured by individual potent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 Cf. Matt. 25:15; Eph. 4: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 2 Corinthians 8:12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For if the willingness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   is there, the gift is acceptable according to what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   one has, not according to what he does not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   have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Fruitfulness is a promise, and, it is an assignmen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onclusion – Luke 8: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We must use what we have.  God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expects fru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If we do not use it, God will take it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w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f. Matthew 25:28-3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eneral Theme:  Responsibility of Hearing God’s Wo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in Lesson:  </a:t>
            </a:r>
            <a:r>
              <a:rPr b="0" i="1" lang="en-US" sz="3200" spc="-1" strike="noStrike">
                <a:solidFill>
                  <a:srgbClr val="ffffff"/>
                </a:solidFill>
                <a:latin typeface="Benguiat Bk BT"/>
              </a:rPr>
              <a:t>“Take Heed How You Hear!”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 OF THE PARAB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SzPct val="141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Jesus first parable from the </a:t>
            </a:r>
            <a:r>
              <a:rPr b="0" lang="en-US" sz="2100" spc="-1" strike="noStrike" u="sng">
                <a:solidFill>
                  <a:srgbClr val="ffffff"/>
                </a:solidFill>
                <a:uFillTx/>
                <a:latin typeface="Benguiat Bk BT"/>
              </a:rPr>
              <a:t>boat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 which served as His </a:t>
            </a:r>
            <a:r>
              <a:rPr b="0" lang="en-US" sz="2100" spc="-1" strike="noStrike" u="sng">
                <a:solidFill>
                  <a:srgbClr val="ffffff"/>
                </a:solidFill>
                <a:uFillTx/>
                <a:latin typeface="Benguiat Bk BT"/>
              </a:rPr>
              <a:t>pulpit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“Listen; Hear” – First and last words according to 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Mark’s account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The Teacher has great responsibility, but so does the 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hearer.  Emphasis here on hearers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3.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The </a:t>
            </a:r>
            <a:r>
              <a:rPr b="0" lang="en-US" sz="2100" spc="-1" strike="noStrike" u="sng">
                <a:solidFill>
                  <a:srgbClr val="ffffff"/>
                </a:solidFill>
                <a:uFillTx/>
                <a:latin typeface="Benguiat Bk BT"/>
              </a:rPr>
              <a:t>public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 at large is presented in this parable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4.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Matthew 12, Jesus cast a demon from a man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a. Pharisees say it was by </a:t>
            </a:r>
            <a:r>
              <a:rPr b="0" lang="en-US" sz="2100" spc="-1" strike="noStrike" u="sng">
                <a:solidFill>
                  <a:srgbClr val="ffffff"/>
                </a:solidFill>
                <a:uFillTx/>
                <a:latin typeface="Benguiat Bk BT"/>
              </a:rPr>
              <a:t>Beelzebub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, but Jesus 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    powerfully refutes their argument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b. Later they ask for a miracle (a sign)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1) Jesus calls them </a:t>
            </a:r>
            <a:r>
              <a:rPr b="0" i="1" lang="en-US" sz="2100" spc="-1" strike="noStrike">
                <a:solidFill>
                  <a:srgbClr val="ffffff"/>
                </a:solidFill>
                <a:latin typeface="BernhardMod BT"/>
              </a:rPr>
              <a:t>“an evil and adulterous generation.”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2) The only sign they would receive was that of 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        Jonah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c. The same day (Matthew 13) He gives the first parable 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Benguiat Bk BT"/>
              </a:rPr>
              <a:t>    dealing with attitude toward God’s Word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277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Bodoni MT Black"/>
              </a:rPr>
              <a:t>EXPLANATION</a:t>
            </a:r>
            <a:r>
              <a:rPr b="0" lang="en-US" sz="3000" spc="-1" strike="noStrike">
                <a:solidFill>
                  <a:srgbClr val="ffffff"/>
                </a:solidFill>
                <a:latin typeface="Bodoni MT Black"/>
              </a:rPr>
              <a:t> OF DETAILS ESSENTIAL TO UNDERSTANDING THE PARAB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SzPct val="11856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“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Benguiat Bk BT"/>
              </a:rPr>
              <a:t>The Sower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” – It Jesus in the context – Later it is apostles and anyone who teaches the word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1 Corinthians 3:6 – Paul sees himself as a 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sower – </a:t>
            </a:r>
            <a:r>
              <a:rPr b="0" i="1" lang="en-US" sz="2500" spc="-1" strike="noStrike">
                <a:solidFill>
                  <a:srgbClr val="ffffff"/>
                </a:solidFill>
                <a:latin typeface="BernhardMod BT"/>
              </a:rPr>
              <a:t>“I planted…”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1 Corinthians 9:11 – </a:t>
            </a:r>
            <a:r>
              <a:rPr b="0" i="1" lang="en-US" sz="2500" spc="-1" strike="noStrike">
                <a:solidFill>
                  <a:srgbClr val="ffffff"/>
                </a:solidFill>
                <a:latin typeface="BernhardMod BT"/>
              </a:rPr>
              <a:t>“If we have sown spiritual seed </a:t>
            </a:r>
            <a:r>
              <a:rPr b="0" i="1" lang="en-US" sz="25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BernhardMod BT"/>
              </a:rPr>
              <a:t>among you…”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SzPct val="11856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“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Benguiat Bk BT"/>
              </a:rPr>
              <a:t>The Seed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” – Luke 8:11 – </a:t>
            </a:r>
            <a:r>
              <a:rPr b="0" i="1" lang="en-US" sz="2500" spc="-1" strike="noStrike">
                <a:solidFill>
                  <a:srgbClr val="ffffff"/>
                </a:solidFill>
                <a:latin typeface="BernhardMod BT"/>
              </a:rPr>
              <a:t>“The seed is the word of God.”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Mark 4:14 – </a:t>
            </a:r>
            <a:r>
              <a:rPr b="0" i="1" lang="en-US" sz="2500" spc="-1" strike="noStrike">
                <a:solidFill>
                  <a:srgbClr val="ffffff"/>
                </a:solidFill>
                <a:latin typeface="BernhardMod BT"/>
              </a:rPr>
              <a:t>“The farmer sows the word.”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Matthew 13:19 – </a:t>
            </a:r>
            <a:r>
              <a:rPr b="0" i="1" lang="en-US" sz="2500" spc="-1" strike="noStrike">
                <a:solidFill>
                  <a:srgbClr val="ffffff"/>
                </a:solidFill>
                <a:latin typeface="BernhardMod BT"/>
              </a:rPr>
              <a:t>“…the evil one snatches away what </a:t>
            </a:r>
            <a:r>
              <a:rPr b="0" i="1" lang="en-US" sz="25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BernhardMod BT"/>
              </a:rPr>
              <a:t>was sown…”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3.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Benguiat Bk BT"/>
              </a:rPr>
              <a:t>1 Peter 1:25 – </a:t>
            </a:r>
            <a:r>
              <a:rPr b="0" i="1" lang="en-US" sz="2500" spc="-1" strike="noStrike">
                <a:solidFill>
                  <a:srgbClr val="ffffff"/>
                </a:solidFill>
                <a:latin typeface="BernhardMod BT"/>
              </a:rPr>
              <a:t>“But the word of the Lord stands </a:t>
            </a:r>
            <a:r>
              <a:rPr b="0" i="1" lang="en-US" sz="25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BernhardMod BT"/>
              </a:rPr>
              <a:t>forever. And this the word that was preached to you.”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280" y="2775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Bodoni MT Black"/>
              </a:rPr>
              <a:t>EXPLANATION</a:t>
            </a:r>
            <a:r>
              <a:rPr b="0" lang="en-US" sz="3000" spc="-1" strike="noStrike">
                <a:solidFill>
                  <a:srgbClr val="ffffff"/>
                </a:solidFill>
                <a:latin typeface="Bodoni MT Black"/>
              </a:rPr>
              <a:t> OF DETAILS ESSENTIAL TO UNDERSTANDING THE PARAB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“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The Wayside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” – A traveled road; path; generally hard; packed down by trav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John 14:6 – Same word Jesus uses;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I am the way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cts 18:26 – Priscilla &amp; Aquila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aught Apollos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…the way of the Lord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more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adequately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cts 22:4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I persuaded followers of this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way…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cts 1:12 – It was even used referring to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 Sabbath’s Day’s journey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…a Sabbath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Day’s walk from the city…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2280" y="2775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Bodoni MT Black"/>
              </a:rPr>
              <a:t>EXPLANATION</a:t>
            </a:r>
            <a:r>
              <a:rPr b="0" lang="en-US" sz="3000" spc="-1" strike="noStrike">
                <a:solidFill>
                  <a:srgbClr val="ffffff"/>
                </a:solidFill>
                <a:latin typeface="Bodoni MT Black"/>
              </a:rPr>
              <a:t> OF DETAILS ESSENTIAL TO UNDERSTANDING THE PARAB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2280" y="2133720"/>
            <a:ext cx="8839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“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The Rocky Places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” – Stony ground; full of rocks (probably fruitless land even to farmer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V. 5 – 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“where it did not have much soil.” 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(Gk. Says, there was not much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earth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V. 6 – Whatever did germinate, soon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died, 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“because they had no root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277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Bodoni MT Black"/>
              </a:rPr>
              <a:t>EXPLANATION</a:t>
            </a:r>
            <a:r>
              <a:rPr b="0" lang="en-US" sz="3000" spc="-1" strike="noStrike">
                <a:solidFill>
                  <a:srgbClr val="ffffff"/>
                </a:solidFill>
                <a:latin typeface="Bodoni MT Black"/>
              </a:rPr>
              <a:t> OF DETAILS ESSENTIAL TO UNDERSTANDING THE PARAB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“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Among Thorns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” – Bramble-bush; bri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crown of thorns on Jesus’ head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as of the same generic typ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Matthew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7:29; John 19:2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Most frequently found in vines and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ushes, rather than larger pla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He who has ears, let him hear”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v. 9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is means, Look for the lessons thes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figures pres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n learn from the less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The Seed-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Word of God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- As it relates to the Kingdo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It is the Gospel – Good New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Matthew 13:17 – Prophets, righteous men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desired to hear what they hear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 Romans 1:16 – Power of G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 2 Timothy 1:10 – Salvation has been revealed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through the Gospe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The Wor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produces only the Kingdom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of G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cts 2:36-41 – Church started through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preaching the Wor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Genesis 1:11 – Seed brings forth after is ki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3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Galatians 6:7, 8 – What you sow, you rea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It is importan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what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we hear – Be sure it is truth – Mark 4:24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olossians 2:8 – Be careful…hollow and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deceptive philosoph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 John 7-8 – Many deceivers…have gone out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into the wor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It is importan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how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we hear – What we have can be taken from us – Luke 8:18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good soil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understood the word – Mark 4:20,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If we hold it firm, Luke 8:1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 Christ assures us we will bring forth frui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 Matthew &amp; Mark says the soils will,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“Yield 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ernhardMod BT"/>
              </a:rPr>
              <a:t>     fruit, some a hundred fold, some sixty, some thirty.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5:02:35Z</dcterms:created>
  <dc:creator>Jerry Cantrell </dc:creator>
  <dc:description/>
  <dc:language>en-US</dc:language>
  <cp:lastModifiedBy>Jerry Cantrell </cp:lastModifiedBy>
  <dcterms:modified xsi:type="dcterms:W3CDTF">2006-02-19T06:55:54Z</dcterms:modified>
  <cp:revision>26</cp:revision>
  <dc:subject/>
  <dc:title>LESSON 12 THE PARABLE OF THE SOILS (THE SOWER)</dc:title>
</cp:coreProperties>
</file>