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12D-53A1-4494-A77F-0E88378D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4F1-82D3-406B-8A0F-D5BD5BE6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71C-6B2F-4559-8D6E-3092C89D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C17-B912-4EE0-A121-D28EB38C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DC0A-52B5-49A2-B5EA-4892147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07B-E10F-4F13-AC34-5D1C6DCD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2CE-A181-419F-AECF-76FA81D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716A-1B92-4864-9AEA-7C543D0C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39B7-5ACC-4F4E-A345-7003B44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44C-71A6-4BB9-9EFC-064F68DC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C3C-D0F5-42A1-B8F2-DD11F2B8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F26-9B9F-4AFB-B190-D010074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6364-164F-4A26-B0DA-FE1CA73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DEA1-CAC1-40A4-9CB4-F822C1A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403C-DB56-462C-AC6A-43471517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9142-DC6F-4DB0-83C2-0FBE2755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9713-0664-4462-A471-CCF0699D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EA5-9DDC-4FF8-B783-0C44EA52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119-5B9A-4614-9B79-8296743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C43-E90C-42D7-ADE3-1B429FD7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25C-FAA1-466B-A8DB-839D9BA6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BB2-CAFC-4738-996F-4FBBFF7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7F6-B227-4775-A679-BB24332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2A3-59AF-495A-8505-E058CD7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CFE-321B-4824-B7C7-9451699F45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DFB-C60F-40FD-B853-2C5E6D29E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GENERAL OUTLINE OF THE PARA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reparedness &amp; Emergency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se &amp; Foolish Virgins (Matthew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5:1-1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pportunity, Fidelity and Reward (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Talents (Matthew 25:14-30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ounds (Luke 19:11-2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inal Judgment of the Kingdom (1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heep &amp; the Goats (Matthew 25:31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FORMAT FOR STUDY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dentification and Reading of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 it General The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Out its Main Lesson or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scuss it Cont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k to make Applic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eal with Problem Areas if there are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ly Ministry Parables (14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ater Ministry Parables (20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ssion Week Parables (9 in numb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mat for studying the par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EARLY MINISTRY (1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Good News of the Kingdom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flict of the new and the old (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uest of the Bridegro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18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Patches and Old Gar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2: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w Wine and Old winesk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9:1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easurers new and o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13:51-5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ilitudes of the Kingdom (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Growing Seed (Mark 4:26-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(Mark 4:30-3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Leaven (Luke 13:20-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Hidden Treasure (Matt 13:3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earl of Great Price      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Matthew 13:45-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ragnet (Matthew 13:47-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EARLY MINISTRY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ponsibility of Hearing (1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(Matthew 13:3-9; Mark 4:2-8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3-20; Luke 8:4-8, 11-15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anslating Hearing into Doing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ittle Children in the Marketplac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7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se and foolish Builder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7:24-2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Kingdom &amp; Presence of Evil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res &amp; Wheat (Matt 13:24-30, 36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“Children of the Kingdo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nditions of Discipleship (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mpty House (Matthew 12:43-4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Uncompleted Tow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Luke 14:29-3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arring King (Luke 14:3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s of discipleship (2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ief Seats (Luke 14:7-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harisee and Publican (Luke 18:9-14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giveness Among The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wo Debtors (Luke 7:36-5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forgiving Servant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8:21-3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vileges and Duties of Disciples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arren Fig Tree (Luke 13:6-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profitable Servant (Luke 17:7-10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sourcefulness &amp; foresight in using money (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just Stewart (Luke 16:1-1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Fool (Luke 12:13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ich Man &amp; Lazarus (Luke 16:19-3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LATER MINISTRY (20)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rue Nature of Neighbors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od Samaritan (Luke 10:25-3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 Love of God (1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aborers in the Vineyard (Matthew 20:1-16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Answers Prayers (2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idnight Friend (Luke 11:5-13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ersistent Widow (Luke 18:1-8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God Loves the Lost (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heep (Luke 15:3-7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Coin (Luke 15:8-10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ost Son (Luke 15:11-2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Elder Brother (Luke 15:25-32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SSION WEEK (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 Theme: The Kingdom of God as Jud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est of Deeds 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wo Sons (Matthew 21:28-3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d’s Overtures Rejected (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ruel Vinedresser (Matthew 21:33-4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reat Supper (Luke 14:15-2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riage Feast of King’s Son 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2:1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dding Garments (Matthew 22:11-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22:54:12Z</dcterms:created>
  <dc:creator>Jerry Cantrell </dc:creator>
  <dc:description/>
  <dc:language>en-US</dc:language>
  <cp:lastModifiedBy>Jerry Cantrell </cp:lastModifiedBy>
  <dcterms:modified xsi:type="dcterms:W3CDTF">2006-02-07T04:50:46Z</dcterms:modified>
  <cp:revision>15</cp:revision>
  <dc:subject/>
  <dc:title>GENERAL OUTLINE OF THE PARABLES</dc:title>
</cp:coreProperties>
</file>