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03-9ADF-4781-913B-C34E17D5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D64-41CA-4930-AFF2-3959199B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D3A-A47E-462B-89A0-10AC4800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AA3C-7EAC-4BBF-9338-78654EBE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AA7A-2FA7-4A0D-9089-449B033F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8EF-26D3-4A6F-B3D9-940A288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350F-B057-42C0-BD1C-21648CD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5F5-32E0-4D8E-A250-F9AB6A40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3E91-B4F7-49D4-A4B4-C4E186F4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9619-41F0-4855-9A33-956045D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81B5-6F5C-4276-AFA0-59CB213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F9B-7C47-430F-9C9E-A2BA2924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A661-55D6-4B4B-8E61-E5A36AC3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D47-8197-4B66-A10C-C1B1030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6E3D-21B6-4010-AE2D-2E09823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1596-9569-400A-A5E1-93F4C2B5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ED77-95EC-48CD-AC66-5E075D4F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990-98C9-4B8A-9571-21334FC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BF1-8757-481A-820A-31BAB5BE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882-F448-4538-8EAE-5E281EC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7FC-1A7C-446F-B1FF-141A582C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899-3F61-4E1A-A8D9-FC4DCE68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424-0B24-42E0-9A87-7B84979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998-7A49-4236-81D2-6D346735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DF3-8A6B-4D5D-8D28-5BED5E82CA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F83-D715-4AD1-8C36-B12B3B1656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5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WINE &amp; OLD WINESKI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tthew 9:17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Mark 2:22; Luke 5:37-3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Teaching / Doctr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. 1:27; Acts 17: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follow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Commandme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John 18:3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ear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ev. 2:1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alk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 &amp; Living Wa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0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we serve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6: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n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wness of Spiri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Rom. 7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No one after drinking old wine wants the new, for he says, the old is better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Lk. 5:39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recognizes man’s reluctance to giv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p the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Old Path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, with its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evotions for the novelty of the new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uncharted ways of the new teache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esus knew the old law viewed the new as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uspec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aditions die slowly; rejection of the new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rows out familiarity of the old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Wine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and the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New Skins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hristian system offended the traditional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Hebrew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the Jew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good old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r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ly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toration of Israel had to be the wa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o go (Acts 1: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prophets and the La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ok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later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ing day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n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nd of the ag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Judais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Isa 2:2-4; Joel 2:28ff; Dan 2:44ff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Hebrews speaks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orld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nd its new priestly system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having com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Heb 2:5; 9:1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rist’s teaching were revolutionary, but iconoclastic in the destruction or denial of their Hebrew ro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4:22 –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Salvation is from the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Jews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not the Samaritans, muc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es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ish Christians may still b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zealous of the law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(Acts 21:2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may still enjo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ld wi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a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long as they didn’t impose it o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o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Cf. Rom. 14:1-12; Gal. 2:3-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Incompatibility of the Old and the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revious two parables – The question is still FAS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truth but with a new empha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cloth and the new win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re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 Par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s of the ‘Pearl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reat Price’ and the ‘Hidde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reasure’ teach the sam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problems present in this parab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wine is lost along wi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new life it off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old skins are burst and lose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both are significant with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ir own spheres of purp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life in Christ is lost when forced in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ms (Galatians 5:2-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John 1:17. (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ruth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s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reality’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aw was a system of shadows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it rituals were prophetic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reality” and was significant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r, as far as, and unti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urther)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brews 9: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2133720"/>
          <a:ext cx="8763120" cy="4032000"/>
        </p:xfrm>
        <a:graphic>
          <a:graphicData uri="http://schemas.openxmlformats.org/drawingml/2006/table">
            <a:tbl>
              <a:tblPr/>
              <a:tblGrid>
                <a:gridCol w="1752120"/>
                <a:gridCol w="1752120"/>
                <a:gridCol w="1754280"/>
                <a:gridCol w="1752120"/>
                <a:gridCol w="1752480"/>
              </a:tblGrid>
              <a:tr h="19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La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fection 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Ear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lory To 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Impossi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to Att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Frustration &amp; Bond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sed On Gr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quir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Faith In G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 Gif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eely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vailabl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Benguiat Bk BT"/>
                        </a:rPr>
                        <a:t>N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duces </a:t>
                      </a: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ssuranc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 &amp; Free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990720" y="15238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NTRAST BETWEEN OLD &amp; NEW ON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hat If Christianity is viewed as a new legal system of Justification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have the same frustration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ans 8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no condemnation…’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Romans 7:24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O wretched man… who will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deliver me?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 Gal. 3:10-12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Christ redeemed us from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the curs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We would lose our assurance in Chris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 Rom. 5:1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being justified… we have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peac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 1 Jno 5:13 –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‘…written that we may know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nguiat Bk BT"/>
              </a:rPr>
              <a:t>    we have eternal life.’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or destroy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f the Law – the old skins are burst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ined of their purpose (Gal. 3:22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oss – Gal. 2:21; 3:13-1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would lose the purpos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bedience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Salvation would be b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performance (Rom 4:2-5)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uld exclude all men (Rom 3:9-2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We claim justification by fai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(Titus 3:4-7; Eph. 2:5-1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t In Chri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Creatio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2 Cor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:17; Gal. 6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 Man In Chris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Gal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:28; Eph. 2: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 Jerusalem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(Rev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1:2; Heb. 12:2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us,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‘the fir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old)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passed away… all things are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new.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9:19:05Z</dcterms:created>
  <dc:creator>Jerry Cantrell </dc:creator>
  <dc:description/>
  <dc:language>en-US</dc:language>
  <cp:lastModifiedBy>Jerry Cantrell </cp:lastModifiedBy>
  <dcterms:modified xsi:type="dcterms:W3CDTF">2006-02-13T10:53:50Z</dcterms:modified>
  <cp:revision>16</cp:revision>
  <dc:subject/>
  <dc:title>NEW WINE &amp; OLD WINESKINS</dc:title>
</cp:coreProperties>
</file>