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845-372E-4C99-8380-606C555A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61A-3422-45FE-B49E-758B45E0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C78-2226-46E8-A0D1-B93FFF41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4CB-5DE9-4351-884F-3D65D36C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9F20-F5B8-42A4-B82A-93C3A978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36A3-010F-4C9E-8DC0-48AAA151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80B7-3D82-4940-89F9-0F2DA47B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59D1-5CE2-4FC9-80E4-77B26C33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5F35-E2CF-442E-9B85-D62DC5EA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87DB-85A0-4293-AC8F-D3F936F6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E106-0AF9-4267-8450-1DE12DFE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372-C49A-4412-BF3E-3524A992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100A-E3F8-47D1-A947-84EE5279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A156-A717-4B6F-853D-56EED52F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B9FC-E70E-4353-8546-B15FEF84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0520-4A27-4E08-A232-F86A0B13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DB65-724A-41E4-B238-BADE51CD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893-5A13-4C2C-AD65-C0DAF309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8B5-7299-4D69-A255-82EB247C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A4F-E260-4C51-A270-7F5121BB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D9E-93D9-4339-A0EB-C4D5F17B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322-6FB9-42B9-B0FC-DE8AC684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478-7362-4300-858C-8151EF6A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402-5287-43DF-9554-8BE66B01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4E69-66C8-456E-B2E9-C27882A46D0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4081-FC6E-4C26-9B32-6E21C9B599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doni MT Black"/>
              </a:rPr>
              <a:t>Lesson 7</a:t>
            </a:r>
            <a:br>
              <a:rPr sz="3600"/>
            </a:br>
            <a:r>
              <a:rPr b="0" lang="en-US" sz="5400" spc="-1" strike="noStrike">
                <a:solidFill>
                  <a:srgbClr val="ffffcc"/>
                </a:solidFill>
                <a:latin typeface="Bodoni MT Black"/>
              </a:rPr>
              <a:t>PARABLE OF THE GROWING TRE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rk 4:26-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6:63 – It is the words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I have spoken to you”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that gives lif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15:3 – It is the word that cleanses a lif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ohn 8:31-32 – It is abiding in the word tha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makes a man free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ames 1:18 – The word of God begets us (1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Peter 1:23)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G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ames 1:21 - It is the implanted word that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saves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1 Thess 2:13 – it is the received word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which works in you that believe.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Hebrews 4:12 –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“the word of God is living, active, 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300" spc="-1" strike="noStrike">
                <a:solidFill>
                  <a:srgbClr val="ffffff"/>
                </a:solidFill>
                <a:latin typeface="BernhardMod BT"/>
              </a:rPr>
              <a:t>sharper…piercing and judging”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J.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Isaiah 55:10 – God’s word does what He 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Benguiat Bk BT"/>
              </a:rPr>
              <a:t>demands of it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Little wonder Satan wants to take the word out of the heart of man – Lk 8:12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 Thess 2:15 – the Jew drove Paul out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forbidding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us to speak to the Gentiles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that they may be saved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V. 18 – Paul would have</a:t>
            </a:r>
            <a:r>
              <a:rPr b="1" lang="en-US" sz="2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come to you, I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Paul. Once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and again, and Satan hindered me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Growth is gradual and occurs in an orderly, natural sequenc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 Development is inherent in the seed; God built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the cycle of reproduction into the seed itself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. There is little the sower can do after sowing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but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sleep and rise night and day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2. He cannot make the sun shine, clouds to giv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early and later rains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(Jas 5:7), or,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“fruitful seasons.” 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200" spc="-1" strike="noStrike">
                <a:solidFill>
                  <a:srgbClr val="ffffff"/>
                </a:solidFill>
                <a:latin typeface="BernhardMod BT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(Acts 14:17)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Mark 4:2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We are not born into the Kingdom full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gr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 1 Peter 1:23 – The wor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rminates the new bir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 1 Peter 2:1-2 – That sam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word, as spiritual milk, fee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us as we grow unto sal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c. 2 Peter 3:18 – we continue to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“grow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in the grace and knowledge of our Lord 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BernhardMod BT"/>
              </a:rPr>
              <a:t>Jesus Christ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. 1 Corinthians 3:1-4 – they ha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been fed on milk, and still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needed milk, so they were fe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milk to prepare them for me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Hebrews 5:12-14 – Milk is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for babies, but 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“meat is for full 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BernhardMod BT"/>
              </a:rPr>
              <a:t> grown men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Hebrews 6:7-8 – Go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expects </a:t>
            </a:r>
            <a:r>
              <a:rPr b="0" i="1" lang="en-US" sz="3200" spc="-1" strike="noStrike">
                <a:solidFill>
                  <a:srgbClr val="ffffff"/>
                </a:solidFill>
                <a:latin typeface="BernhardMod BT"/>
              </a:rPr>
              <a:t>“a useful crop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sower does his work and then trust God with the incre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ames 5: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ames 5: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 Corinthians 4:7 – The all-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surpassing power is from G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alatians 6: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cts 14: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cts 20: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MESSAGE OF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message to these hearers was that the Kingdom would grow and produce fruit and be harves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growth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be dependent on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enguiat Bk BT"/>
              </a:rPr>
              <a:t>ONE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who sowed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standing grain does not know anything about the harvest; only the reaper knows th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Only the reaper knows when the harvest will co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LESSONS LEARNED FROM THE PARAB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Jesus is coming to harvest the ear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velation 14:14-16 shows Christ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with a crown and a golden sick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He is told,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“take your sickle and 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reap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t is up to us to be good soil and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o produce much fru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eneral Theme:  Similitude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in Lesson:  Gradual, orderly growth of the 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It is the same of Matthew 13 &amp; Mark 4:1.  He is using a boat as His pulpit and His auditorium is the seashore filled with a </a:t>
            </a:r>
            <a:r>
              <a:rPr b="0" i="1" lang="en-US" sz="2200" spc="-1" strike="noStrike">
                <a:solidFill>
                  <a:srgbClr val="ffffff"/>
                </a:solidFill>
                <a:latin typeface="Benguiat Bk BT"/>
              </a:rPr>
              <a:t>“great multitude of people.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Mark records many of the Matthew 13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parables, so the setting and time must b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identica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But Mark is the only one to record this parabl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– maybe it reminds him of his only gradual grow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as a serva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This parable, the Mustard Seed &amp; Leaven, ar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given to confirm faith in the discip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1. Spoken to those who may have doubted at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some time (no army, wealth, etc. for His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kingdom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2. These three parables surely built confidence 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Benguiat Bk BT"/>
              </a:rPr>
              <a:t>    and hope in His disciple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We see ideas about the Kingdom that need to understood from a Biblical perspective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God is sovereign ruler over the 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Kingdo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1. Judges 8:23 – words of Gideon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2. 1 Samuel 8:7 – Israel demands a 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    king and God tells Samuel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Benguiat Bk BT"/>
              </a:rPr>
              <a:t>3. Psalm 103:19 – Still God reig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The coming of the Messianic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Kingd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. In Prophec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 Isaiah 2:1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 Isaiah 9: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 Jeremiah 30:8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 Daniel 2: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 Daniel 7:13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f. Zechariah 6:12-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THE SETTING OF THE PARABLE </a:t>
            </a: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d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2. The Kingdom is fulfilled during the ministry of Jesus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Mark 1:13-15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Matthew 6:1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Luke 9:2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d. John 18:36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3. The Kingdom established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Acts 2:30 – Jesus on David’s throne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1 Timothy 1:17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1 Timothy 6:15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4. Names of the Kingdom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a. Matt. 4:23 – Simply called the Kingdom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b. Matt. 19:24; Mk 9:1; Jno 3:3 – Kingdom of God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c. Matt. 13:43 – Kingdom of the Father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d. Matt. 3:2 – Kingdom of Heaven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e. Matt. 16:28 – Kingdom of the Son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Benguiat Bk BT"/>
              </a:rPr>
              <a:t>f. Eph. 5:3-5 – Kingdom of Christ &amp; God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God does His job when we do ours (1 Peter 1:23-2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” (God’s Word) – Lk 8:1; Mk 4:14; 1 Pet 1:23-2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” is “sown” when we preach the Gospel – Mk 4:26; 1 Cor 3:5-6; 9:11; Psalm 126:5-6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Seed must be sown – otherwise no “harvest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ohn 4:2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 Corinthians 9:6-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John 6:44-4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Romans 10:11-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1. Romans 10: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2. Cf. verse 1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enguiat Bk BT"/>
              </a:rPr>
              <a:t>Acts 4:4; 18:8 – Hearing precedes belie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God provides the seed – It is, after all, the Word of Go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2 Corinthians 9:10 – This is a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ifferent context, but the truth 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remains that God gives the s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Isaiah 55: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Matthew 28: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D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1 Thessalonians 2:13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E.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enguiat Bk BT"/>
              </a:rPr>
              <a:t>Luke 10: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doni MT Black"/>
              </a:rPr>
              <a:t>APPLICATION</a:t>
            </a:r>
            <a:br>
              <a:rPr sz="4000"/>
            </a:br>
            <a:r>
              <a:rPr b="0" i="1" lang="en-US" sz="3200" spc="-1" strike="noStrike">
                <a:solidFill>
                  <a:srgbClr val="ffffcc"/>
                </a:solidFill>
                <a:latin typeface="Bodoni MT Black"/>
              </a:rPr>
              <a:t>continues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Germ, or power of life, is in the seed – the Word of G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This is the major thrust of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pa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It is a creation principle – Gen. 1:9-12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each seed produces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after its kind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– source of all lif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1. Power is not in the “sower” for 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“cast the seed…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2. 1 Corinthians 3:5-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3. Power is not in the “soils” – the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ground only provides the site for 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enguiat Bk BT"/>
              </a:rPr>
              <a:t>    the seed to do it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22:33Z</dcterms:created>
  <dc:creator>Jerry Cantrell </dc:creator>
  <dc:description/>
  <dc:language>en-US</dc:language>
  <cp:lastModifiedBy>Jerry Cantrell </cp:lastModifiedBy>
  <dcterms:modified xsi:type="dcterms:W3CDTF">2006-01-23T00:33:08Z</dcterms:modified>
  <cp:revision>16</cp:revision>
  <dc:subject/>
  <dc:title>Lesson 7 PARABLE OF THE GROWING TREE</dc:title>
</cp:coreProperties>
</file>