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CDD-49B6-4712-9242-3898166A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10A-CBC0-4576-AA60-7414D3A9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456-D067-4C78-9503-C6EC2A29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726-AAAE-4734-936F-2CDAAF3F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9626-CEF8-41F6-A106-30FB9013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FA3B-8DD4-46E5-970C-3A3C004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11CE-B767-4F1E-8E1D-42C815C7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4411-303D-4A91-AFC1-A6AE732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737C-3CA9-46D8-A1DC-4866EA78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492E-87C5-4267-BCEF-46AC8D82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1FD0-481E-46E2-B644-F0EA431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5B0-647B-4809-84A3-B0F4662A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95F4-D522-4346-BE3C-7603669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5E13-3A8C-479D-A8F6-ECDFF82F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BD8B-8DA0-4768-A796-EE93FE0B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4B7-C0C8-4BD6-A48D-214414CB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247-A0B5-4207-9DFD-FE6A5AF8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527-FC71-466A-A9AD-1DF82F60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80F-4784-43BF-AAAA-D6B34B09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6F6-B625-495F-923D-2295486E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061-5BC7-40D5-9EA1-93071AFF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750-DE91-456C-9563-3E5A960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69B-1961-454D-9AA0-897FF30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739-F605-406E-8202-94C52A0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779C-356A-4E97-A017-E554B0CA3F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8206-76EE-4551-88BB-68975148E6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11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THE PEARL OF GREAT PRI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45-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Seeking and finding the Kingdom is the supreme discovery bringing the greatest joy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the same as the parable of the “Hidden Treasur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Great Value” of the Kingdom is still the top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willingness to sacrifice all is the characteristic of the seeker for the finder of the trea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cc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Merchant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Trader; merchantman; retailer – Rev. 18:3, 11,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merchants of the world weep over fallen Babylo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Pear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” – Highly esteemed for purity and bea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ason for Jesus’ advice – Matt 7: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Neither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have appreciation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spiritual val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Cor. 2:1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natural man does no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 receive the things of the spirit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Revelation 21:21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Holy city…adorne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th twelve pearl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parable expands on the message of the “Hidden Treasur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isdom of seeking the greatest things in l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b. 11:6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God is a rewarder of them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at diligent seek Him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. 6:3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seek first </a:t>
            </a:r>
            <a:r>
              <a:rPr b="0" lang="en-US" sz="2800" spc="-1" strike="noStrike">
                <a:solidFill>
                  <a:srgbClr val="ffffff"/>
                </a:solidFill>
                <a:latin typeface="BernhardMod BT"/>
              </a:rPr>
              <a:t>(first importance)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kingdom of Go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Matt 7: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that seeks, finds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Acts 17:27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…he his not far from each on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of us…”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(easy to find for those wh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seek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had a definit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pose –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he pursued it with singleness of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Luke 15:8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The woman had a lamp, swept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nd searched diligen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Too much “aimlessness”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The parable illustrates the Kingdom i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orth intense and diligent sear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merchant was not satisfied with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rdinary; common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he sought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fine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pearl of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BernhardMod BT"/>
              </a:rPr>
              <a:t>great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Understanding the great worth in finding the pear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earl equates to an eternal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aved so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ohn 1:45-46 – It is Phillip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nnouncement to Nathanael,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W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have found the one Moses wrote about in the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law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willingness to sacrifi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to posses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ear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merchant was an ordinary trader, but 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becomes a collec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His interest is no longer for physical 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Treasure is too great to negotiate wi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Possession brings joy – he would se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everything el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) All other pearls are sacrificed to posses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is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There may be more than one way to find a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or pearl, but there is onl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ay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ossession them –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sell everything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APPLICATION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ernhardMod BT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lvation is both a gift and 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urch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It is a gift - because it is no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merchant’s doing – only his disco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It is a purchase – because it is wort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everything we can put in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12:34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For where your treasure is, there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will your heart be also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Col. 3:2-3 –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Set your mind on thing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above, not on earthly things. For you died, and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your life is now hidden with Christ in Go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Matt 6:20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“But store up for yourselves 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nhardMod BT"/>
              </a:rPr>
              <a:t>    treasures in heaven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21:18:32Z</dcterms:created>
  <dc:creator>Jerry Cantrell </dc:creator>
  <dc:description/>
  <dc:language>en-US</dc:language>
  <cp:lastModifiedBy>Jerry Cantrell </cp:lastModifiedBy>
  <dcterms:modified xsi:type="dcterms:W3CDTF">2006-02-10T03:29:05Z</dcterms:modified>
  <cp:revision>11</cp:revision>
  <dc:subject/>
  <dc:title>LESSON 11 THE PEARL OF GREAT PRICE</dc:title>
</cp:coreProperties>
</file>