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05E-7FEF-4C51-96C2-42C3B7B6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97E-3AE5-4CA7-B9CE-F7A57E88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D1B-5958-443D-B147-2C1391E6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382-7B3B-4653-8991-CEB62114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0DC3-FBE3-4A2A-AAF8-1E964914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DDA4-2FEF-4727-A8FC-3635229B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C8A5-BB21-432A-B6DB-2D72B655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9D88-DEB6-4CBC-80C4-1FEE19F7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A4CB-45C9-4D8C-845C-334F2DF1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F5BA-74CC-4232-AD21-AF61E199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40CC-3E84-4E4F-BA0B-46A395CE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2D8-C0B8-4FE8-8B53-ACD273D5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CF11-1746-48BF-8547-2A2678F4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6C6F-C67A-4495-8405-C00669C3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927B-9E88-4987-999E-33C5CE65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7147-1A0F-4B5E-8868-6126A016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4A86-40C7-4663-80F5-BB4B1A62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511-90DF-4BDB-AA93-ABB86CCD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A60-CA91-4C61-AFA0-1CC3C472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9BA-C507-4E84-842C-036A14C2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A13-8ACC-4C77-A9E8-8F19EE75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6CD-8B0A-4E73-A557-1F2962A8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9CD-6D1E-4038-AADF-9A1F14DE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C22-64FF-4228-ACD5-1F5801D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64E3-0B5B-4075-8F1C-4CA12DE20D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1543-82CA-4E48-9912-EE91A374B2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ESSON T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THE HIDDEN TREA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asure” – unexcelled value; priceless; more precious than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the “Kingdom” – It is the priz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z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foolishness of losing the treasu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s seen in the contrast of 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16:24-2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verse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 rich ruler of Luke 18:22-23.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nstead of possessions in heaven,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ent away sorrow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at determines the worth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king himself – when w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possess Him, we possess all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m 8:32; 1 Cor 3:21; Jno 14: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The durability of the Kingdom –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eb 12:28; Dan 2:44; 7:14; 1 Pe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:3-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The uniqueness of the Kingdom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hil 3:8; Jno 14: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The practicality of the Kingdom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esus satisfies our needs her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and in the hereaf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1 Tim. 4:7-8. Godliness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profi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Matt. 19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no 4:14 – never th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Phil. 4:19 – Supplies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2 Cor. 9:8 – M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rac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ab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True riches of God found 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Romans 2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Ephesians 1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Ephesians 1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Ephesians 3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Colossians 2: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acquisition; purchase of the Kingdom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aste; without delay; act now o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los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2 Corinthians 6: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Hebrews 3:1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iding the treasure – lest anothe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ake it away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 The preparation – selling everyth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Luke 14:28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Luke 14:3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3. Matthew 10:37-39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4. Philippians 3:7-8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joy is complete – he understands the value of the treasure he has ac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buying was indescribable goo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tune; sacrifice a joy; duty she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hila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51:12 – describes the horrors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ce known joys, now g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61:1-3 – Prophetic of Christ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at God can do through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35:5-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Peter 1:8 -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sense of sacrifice; no regret;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haggling over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“Immediately” – straight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interesting word in scrip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Matthew 4:20; Mark 1: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cts 16: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In scripture, those who came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came straightway.  Those wh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did not come straightway di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not come at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What was Jesus saying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ich young ruler when he to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im to sell all that he had? Matt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9: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Matt 11:28-30 – Giving up th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urden could never b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idered a sacri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t is a sacrifice when we give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ss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Buying – Everyone love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ried treasure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He goes “in joy” and sells “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o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like the man of Proverb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20:14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Proverbs 23: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saiah 55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Revelation 3: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Finding the Kingdom is the supreme discovery bringing the greatest of joy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leaves the boat and the multitudes (Matt 13:36) and enters a house with his disci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reserves the explanation of the parable of the “tares” for them only (Matt 13:36-4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now gives them three other parables: The Treasure; the Pearl; and the 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reasure” – Gk. ‘A store laid up.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ould be money; jewels; or the like –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oarded up; to have in sto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 thing of great worth; something rare or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preciou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Field” – Any field where treasure can be buri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Without banks or vaults, valuables often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idden in the earth to keep saf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Rabbis said best place for money was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 (so do realtors today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Matt. 25:25 – One talented man hid it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rality of the man’s a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e discovered treasure; owner unaware of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guratively, hid the treasure again and bough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land without revealing the reality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r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Edersheim: Says, this perfectly l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rclay: Says, whatever is found belong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Seems he is within his righ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hy hid it and not mention it? 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y the hurried purch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Lev. 6:3-6 makes it a trespass to deal false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ith your neighbor.  Must restore lost th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iscussion of ‘morality’ is foreign to the intent of parable; it attempts to allegorize every part of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not defending the ma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r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teaching, if a man would g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this extent for a treasure tha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ll perish, how much more sh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go for a treasure that will la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an eter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” – any man; every man that discovers the treasure of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rimary emphasis is the value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; secondary point is the wisdom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 the “parable of the Pearl” the emphasis 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 and the secondary point i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 (they begin differentl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’ &amp; “Leaven” emphasis huma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Kingdom rules individuals and man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It is both a personal good and a social or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This parables stresses the individual;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is a personal poss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an found what he was not looking for (Isa 65:1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maritan went on ordinary errand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ell, but the Messiah (Jno 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Zacchaeus looked out of curiosity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und salvation (Lk. 1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was on the road to Damascu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confronted by Jesus (Acts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 were separated (Eph 2:12-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), heard salvation was offered to the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 Jesus (Act 13:48), and the Jewis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ethren received them with Joy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5: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Parable of the Pearl” has a genuine seeker who finds Jesus, verifying prophecy (Proverbs 8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icodemus seems to have been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John 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thiopian Eunuch wa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Acts 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ereans were earnest seeker (Act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eon was looking (Luke 2:2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8:30:40Z</dcterms:created>
  <dc:creator>Jerry Cantrell </dc:creator>
  <dc:description/>
  <dc:language>en-US</dc:language>
  <cp:lastModifiedBy>Jerry Cantrell </cp:lastModifiedBy>
  <dcterms:modified xsi:type="dcterms:W3CDTF">2006-02-05T00:58:34Z</dcterms:modified>
  <cp:revision>16</cp:revision>
  <dc:subject/>
  <dc:title>LESSON TEN THE HIDDEN TREASURE</dc:title>
</cp:coreProperties>
</file>