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195-57D4-41B5-8B68-6C1E2F7B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DAC-0832-42C2-8968-6F9F7D37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80D-CCDE-4789-B62C-EEA48CCD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2BB-5911-427D-B53F-F2779990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DA6-4340-45B8-8143-AD649F0B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5E41-37AE-4774-82E1-C96A6459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9BE9-6DF2-4021-A0F9-6804A7B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6EB6-756D-464F-A64B-18A4A9A3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474A-5143-4955-BBC8-70B2D2F4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105-1FB2-4752-BB98-5EE76A8E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A19-443E-4E65-AB99-6627D53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1DC-B466-4643-B589-B6146716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9DB2-03EB-4758-ACB1-BE602E19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0B2-5432-4591-8F8A-A61F1D8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7FD5-5922-404D-ACE3-3394CB4B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53D-AA67-411F-B934-F0328A0A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2FF-FB73-43BA-B943-D42289BF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273-6AF3-4EFD-A8CE-44637E3D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5AB-0495-472F-B42C-90CB3581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238-DA61-4282-BBFB-816053D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424-ED70-4ECE-ACBE-97B571FD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A0A-9A8A-486A-9B53-320D316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909-833B-4AB2-B0BF-D908217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F92-B8DB-4377-995B-356D9A12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072-5C08-4AF4-AC82-880ACA0DA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500-1463-4297-8180-3E3C394C57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LESSON 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enguiat Bk BT"/>
              </a:rPr>
              <a:t>AN INTRODUCTION TO THE PAR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 OF JES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aborers in the Viney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1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S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8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riage of King &amp; Wedding Gar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2:1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en Virg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-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l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1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heep &amp; The Go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5:31-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517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wo Debto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6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Good Samari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:25-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riend at Midn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5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Rich Fo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6-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atchful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35-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Barren Fi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6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Chief S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7-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east For The Po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2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Great Sup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16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Unfinished Tow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28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ONLY 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LU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King Going To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4:31-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Co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8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odigal 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11-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ishonest Stew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-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ich Man &amp; Laza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6:19-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ster &amp;  Serv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7:7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ersistent Wid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harisee &amp; Publ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9-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9:11-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– Both are comparisons – differ in form not ess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very detail in allegory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eaningful (Gal. 4:21-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lanation is contained i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(John 10:1-1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iterally a “fig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teach only one truth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llegory may teach several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Isa. 5:1-7; Psa. 80:8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or My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ligion vs the secular – bo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ach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contain fantasy, unreal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nnatural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tham’s talking tree seeking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uler (Jud. 9:7-1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maziah sends messengers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ehoash (2 Kings 14:8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ables place the unnatural in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atural so as to teach some desir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ru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PARABLES ARE DIFFERENT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ver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ffer from Parables even th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oth words are us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erchangeably in the N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est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4:23 – more a proverb tha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times calle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dark saying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6: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nerally, proverbs are short – “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utter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part of their meaning and leave the rest to be 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ernhardMod BT"/>
              </a:rPr>
              <a:t>inferred 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(Tr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ld Testament said He w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Psalm 78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kes truth clear to believers (Matt. 13:10-12; Lk. 8:9-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y illustrate the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y spur men to deeper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ought and ref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They attract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 They are du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 They stimulate inqui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WHY JESUS USED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test the character of the hear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isarm antagonism, hasty judgment &amp; preconceived prejudi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demand an answer, to encourage a verdict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enable the hearer to recognize themsel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produce a sudden awaken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move men’s thoughts from the earthly to the heavenl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quicken the powers to hear proper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They leave men with clear options and alternativ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void making every detail to be meaningful &amp; 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k first to understand the salient or principl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must not be the primary of first source of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Never interpret the literal from the figur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ook for the obvious, easy truth, and its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iscover from the con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ow Christ to explain His own 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arch the context for explanations, hints, or c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wedding (Matt 22:1-14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Many are called, but few chose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oolish &amp; wise virgins (Matt 25:1-13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erefore keep watch, because you do not know the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day or the hour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ost sheep, coin, boy (Luke 15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his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lcomes sinners and eats with them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rsistent Widow (Luke 18)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Parable…the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ought always to pray and not faint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harisee &amp; Publican (Luke 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me were…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elf-righteous and looked down on everyone el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le of pound (Luke 19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people thought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e kingdom of God was going to appear at onc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ENERAL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will open my mouth in parables, I will utter hidden things, things from of ol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33-34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ith many similar parables Jesus spoke the word to them, as much as they could understand. He did not say anything to them without using a parable.  But when He was alone with His own disciples, He explained everyth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s were used before Jesus’ time but never with His success. When we think of parables we think of J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parable comprise 1/3 of the recorded teachings of Jesu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RULES FOR INTERPRETING THE PARABLES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righteous steward (Luke 16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Use wor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wealth to gain friends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Unmerciful Servant (Matt (18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How many times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should I forgive my brother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borers in vineyard (Matt. 20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o the last will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be first, and the first will be las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ich Fool (Luke 12)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Watch out! Be on your guar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gainst all kinds of greed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parables relate to kingdom it is different from earthly kingdo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honest with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 diligent in study and pr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first applications to yourself. Let the Lord instruct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WHAT IS A PARAB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ARABOLE – “PARA,” beside or alongside; “BOLLO,” to th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sic Idea: a comparison; an analogy; a figurative say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An earthly story with a heavenly meaning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– Good gener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ut a bit too general – some d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not tell a story – rather saying or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dage (ancient wisdo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Physician heal thyself”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Luke 4:2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B</a:t>
            </a:r>
            <a:r>
              <a:rPr b="1" i="1" lang="en-US" sz="2400" spc="-1" strike="noStrike">
                <a:solidFill>
                  <a:srgbClr val="ffffff"/>
                </a:solidFill>
                <a:latin typeface="BernhardMod BT"/>
              </a:rPr>
              <a:t>lind leading the blind” 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(Matthew 15:1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1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Nothing inside a man can  make him ‘unclean’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going into him. Rather, it is what comes out of a man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that makes him ‘unclean.’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(Mark 7:15-1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DEFINITION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arables use familiar experiences and makes an application by comparison or ana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“User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throws dow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 familiar story and then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lays alongside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esired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HOW ARE PARABLES USED IN SCRIP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Old Testament Parables – proverbs or similitud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Isa. 5:1-7 – God’s parable on Israel being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vineya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 Sam. 12:1-7 – Nathan’s parable to David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the only sheep), 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you are the man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New Testament Parables – Some 45 different moral stories of Jesu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ke records the greater por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records Kingdom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presents very few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John presents NO parab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600200"/>
          <a:ext cx="8686800" cy="51516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A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of  Brideg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18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3-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Patches/Old Gar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New Wine/Old Winesk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9: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: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5: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S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-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2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8:4-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Mustard S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1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4:30-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18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cked Husband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33-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1-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0:9-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Fig Tr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32-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8-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1:29-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LU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Wise &amp; Foolish Buil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24-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:47-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hildren in the market p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1:16-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7:31-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eav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0-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Lost Shee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12-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5:3-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Wise Ste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24:45-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2:42-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PARABLES &amp; LO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PAR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Bodoni MT Black"/>
                        </a:rPr>
                        <a:t>MATTHE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T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24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idden Trea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Precious Pea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47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Drag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Househol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3:51-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The Unmerciful Serv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8:23-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21:11:15Z</dcterms:created>
  <dc:creator>Jerry Cantrell </dc:creator>
  <dc:description/>
  <dc:language>en-US</dc:language>
  <cp:lastModifiedBy>Jerry Cantrell </cp:lastModifiedBy>
  <dcterms:modified xsi:type="dcterms:W3CDTF">2006-02-06T19:47:39Z</dcterms:modified>
  <cp:revision>23</cp:revision>
  <dc:subject/>
  <dc:title>THE PARABLES OF JESUS</dc:title>
</cp:coreProperties>
</file>