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8573-5477-46F6-9A7A-2F01C4A75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01D4-2828-46FD-84B4-327D6CE9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965C-0194-45A1-B6C9-A99F1E06D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B56D-97D1-4F01-A4AA-0C99CF4D0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8FF85-C411-4D9F-8987-263202B86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E209-CDAD-49F1-8CEB-0771A13B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D9AC-FA34-4689-A31F-9F97924D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AD3A-07F5-441D-9DB1-2CCAAC12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74E16-1CDE-4019-B34F-A923F440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8585-6EAA-40A3-9457-8A63A885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8781-0F52-4E11-93C9-724B8CB5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82BA-BA38-45CE-874D-A358D0C2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E3FA-60CD-4992-A2D6-606F5CF1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586D6-3B36-4C51-938A-A66917E8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E2B4-19D8-45A9-A35F-49EFE903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49C1-D206-488F-A061-21C6E6CE7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1F501-8C33-40D2-82F2-BD016D123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6D1A-6826-4F03-8705-2E11DE22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24D2-4BBF-42FE-90F4-84D34CDC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188D-C7B6-4856-A259-F189D750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019D-8FD1-4133-B6F8-BB02D506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08F2-9CEE-4CFD-9BD8-52A92A18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1589-F030-4039-A8D6-447C0167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0B5F-27E4-4183-8E67-C607122E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1E11-E91C-4666-B207-39810D9473C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BF8F-903B-4420-AD41-7006C8AF842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 MT Black"/>
              </a:rPr>
              <a:t>Lesson 5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Bodoni MT Black"/>
              </a:rPr>
              <a:t>NEW WINE &amp; OLD WINESKIN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Matthew 9:17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; Mark 2:22; Luke 5:37-3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e follow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New Teaching / Doctrin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k. 1:27; Acts 17:19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e follow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New Commandment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John 18:34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e wear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New Nam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(Rev. 2:17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H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e walk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New &amp; Living Way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(Heb.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0:20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I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nd we serve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Newness of Lif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(Rom.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6:4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J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nd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Newness of Spirit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(Rom. 7:6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No one after drinking old wine wants the new, for he says, the old is better”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(Lk. 5:39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Jesus recognizes man’s reluctance to give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up the </a:t>
            </a:r>
            <a:r>
              <a:rPr b="0" i="1" lang="en-US" sz="2500" spc="-1" strike="noStrike" u="sng">
                <a:solidFill>
                  <a:srgbClr val="ffffff"/>
                </a:solidFill>
                <a:uFillTx/>
                <a:latin typeface="Benguiat Bk BT"/>
              </a:rPr>
              <a:t>Old Paths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, with its traditional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devotions for the novelty of the new,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uncharted ways of the new teacher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Jesus knew the old law viewed the new as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suspect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raditions die slowly; rejection of the new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grows out familiarity of the old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he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Benguiat Bk BT"/>
              </a:rPr>
              <a:t>New Wine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and the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Benguiat Bk BT"/>
              </a:rPr>
              <a:t>New Skins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of the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Christian system offended the traditional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Hebrew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o the Jews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good old days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ere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only days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, and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estoration of Israel had to be the way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o go (Acts 1:6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 The prophets and the Law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spoke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later days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coming days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and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end of the ag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of Judaism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(Isa 2:2-4; Joel 2:28ff; Dan 2:44ff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 Hebrews speaks of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world t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com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and its new priestly system a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having com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(Heb 2:5; 9:11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hrist’s teaching were revolutionary, but iconoclastic in the destruction or denial of their Hebrew roo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John 4:22 – 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‘Salvation is from the 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Jews’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– not the Samaritans, much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les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Genti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Jewish Christians may still b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zealous of the law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(Acts 21:20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 They may still enjoy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old win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a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long as they didn’t impose it on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oth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 Cf. Rom. 14:1-12; Gal. 2:3-5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 Good news of the Kingd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Lesson: Incompatibility of the Old and the Ne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is the same as the previous two parables – The question is still FASTING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is the same truth but with a new emphas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new cloth and the new win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re known as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Twin Parab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parables of the ‘Pearl of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reat Price’ and the ‘Hidden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reasure’ teach the same less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SETTING OF THE PARABLE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wo problems present in this parabl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new wine is lost along with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new life it offer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old skins are burst and lose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int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ut both are significant within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ir own spheres of purpo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NEW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life in Christ is lost when forced in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OLD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forms (Galatians 5:2-6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f. John 1:17. (</a:t>
            </a:r>
            <a:r>
              <a:rPr b="0" i="1" lang="en-US" sz="3200" spc="-1" strike="noStrike">
                <a:solidFill>
                  <a:srgbClr val="ffffff"/>
                </a:solidFill>
                <a:latin typeface="Benguiat Bk BT"/>
              </a:rPr>
              <a:t>‘truth’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is </a:t>
            </a:r>
            <a:r>
              <a:rPr b="0" i="1" lang="en-US" sz="3200" spc="-1" strike="noStrike">
                <a:solidFill>
                  <a:srgbClr val="ffffff"/>
                </a:solidFill>
                <a:latin typeface="Benguiat Bk BT"/>
              </a:rPr>
              <a:t>‘reality’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law was a system of shadows,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nd it rituals were prophetic of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“reality” and was significant only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nguiat Bk BT"/>
              </a:rPr>
              <a:t>“until”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(or, as far as, and until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further)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Hebrews 9:10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28600" y="2133720"/>
          <a:ext cx="8763120" cy="4032000"/>
        </p:xfrm>
        <a:graphic>
          <a:graphicData uri="http://schemas.openxmlformats.org/drawingml/2006/table">
            <a:tbl>
              <a:tblPr/>
              <a:tblGrid>
                <a:gridCol w="1752120"/>
                <a:gridCol w="1752120"/>
                <a:gridCol w="1754280"/>
                <a:gridCol w="1752120"/>
                <a:gridCol w="1752480"/>
              </a:tblGrid>
              <a:tr h="19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Based On L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Requires </a:t>
                      </a: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Perfection -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 </a:t>
                      </a: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Earn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Glory To 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Impossibl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 to Atta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Produces Frustration &amp; Bonda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Based On G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Require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 Faith In G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Free Gif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Freely 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Availabl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Produces </a:t>
                      </a: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Assurance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 &amp; Freedo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990720" y="152388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12193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ONTRAST BETWEEN OLD &amp; NEW ON JUST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What If Christianity is viewed as a new legal system of Justification?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We would have the same frustration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1. Romans 8:1 –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‘no condemnation…’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2. Romans 7:24 –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‘O wretched man… who will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    deliver me?’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3. Gal. 3:10-12 –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‘Christ redeemed us from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    the curse.’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We would lose our assurance in Christ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1. Rom. 5:1 –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‘being justified… we have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    peace.’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2. 1 Jno 5:13 –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‘…written that we may know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    we have eternal life.’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e would lose or destroy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urpos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of the Law – the old skins are burst,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uined of their purpose (Gal. 3:22-25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e would lose the purpose of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ross – Gal. 2:21; 3:13-14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e would lose the purpose of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obedience of fait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 Salvation would be by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performance (Rom 4:2-5) an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would exclude all men (Rom 3:9-2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 We claim justification by faith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(Titus 3:4-7; Eph. 2:5-10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ut In Chris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We are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New Creation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(2 Cor.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5:17; Gal. 6:15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We a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One Man In Christ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(Gal.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3:28; Eph. 2:15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We are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New Jerusalem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(Rev.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1:2; Heb. 12:22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For us, </a:t>
            </a:r>
            <a:r>
              <a:rPr b="0" i="1" lang="en-US" sz="3200" spc="-1" strike="noStrike">
                <a:solidFill>
                  <a:srgbClr val="ffffff"/>
                </a:solidFill>
                <a:latin typeface="Benguiat Bk BT"/>
              </a:rPr>
              <a:t>‘the first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(old) </a:t>
            </a:r>
            <a:r>
              <a:rPr b="0" i="1" lang="en-US" sz="3200" spc="-1" strike="noStrike">
                <a:solidFill>
                  <a:srgbClr val="ffffff"/>
                </a:solidFill>
                <a:latin typeface="Benguiat Bk BT"/>
              </a:rPr>
              <a:t>things are </a:t>
            </a:r>
            <a:r>
              <a:rPr b="0" i="1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nguiat Bk BT"/>
              </a:rPr>
              <a:t>passed away… all things are </a:t>
            </a:r>
            <a:r>
              <a:rPr b="0" i="1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nguiat Bk BT"/>
              </a:rPr>
              <a:t>new.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19:19:05Z</dcterms:created>
  <dc:creator>Jerry Cantrell </dc:creator>
  <dc:description/>
  <dc:language>en-US</dc:language>
  <cp:lastModifiedBy>Jerry Cantrell </cp:lastModifiedBy>
  <dcterms:modified xsi:type="dcterms:W3CDTF">2006-02-13T10:53:50Z</dcterms:modified>
  <cp:revision>16</cp:revision>
  <dc:subject/>
  <dc:title>NEW WINE &amp; OLD WINESKINS</dc:title>
</cp:coreProperties>
</file>