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619-A510-4561-ACE6-08082124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438-AB3D-4D84-8C6E-1ED6FA75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61E-140C-4CAC-A906-ED6FA3A1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FA1-967B-40D3-A0E8-8A4CE00A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B575-DCD6-4409-94C1-A4CE790E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BF25-D755-4E9E-89EC-670C9CA2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9C28-977C-4823-AC23-27B1804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66D-71B2-4196-9939-8AD017D9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5EC-9B61-423B-A3CC-C1558DF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D1F-B6FB-4A14-BBC5-3A43FC2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AD9-0293-4EF3-B757-67A7E835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547-2317-4576-B539-44FDC27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635-8FBF-43D4-B0BF-101DA73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87E4-B3BE-4700-A9A6-96D552A1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BBB-CBAA-4F9E-BEDA-5FDAAA4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4493-F99F-4522-AB39-85834604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5650-031F-4E5F-A18B-F0AAB782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DE9-68B0-4589-BEC4-6B23FF3D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03C-316B-4D07-BCBB-9ADA2713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6B9-D2DF-4770-92A7-B699C1B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7B8-95B3-43F9-B563-74F2B246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B82-42A6-4DC5-843C-65A950F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03E-096C-4451-A94E-61FE691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779-E2D2-4176-B819-C38EFBD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65FC-A812-4CA6-8DB0-10E22FAF2F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E83E-BF7A-42EC-8BBE-6F411DAD1E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6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ARABLE OF THE N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7-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does not say what to do with those who are NOT walking upright, and refuse to repent, but other New Testament passages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Corinthians 5:4,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 Thessalonians 3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f. the following passages – Mat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15-18; Romans 16:17; 1 Th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:14; 2 Thess 3:6-16; 1 Tim 1:19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LESSONS LEARN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st as it was not good enough to be a good fish in the net, it is not enough to just be a good member of the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will purge the evil from His Kingdom in the final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weigh the consequences of “disfellowship a brother” seriously and scripturally before executing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similitude because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mparativ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more of a parabol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llustration than a parable, li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ny of the other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Topic:  Judgment of God – The good and the evil will be separated in judgment through ange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same setting as the previous 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was taught in private,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disciples, after entering a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last of the Matthew 13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en Jesus ends this parable He ask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ave you understood all these things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veral of the disciples we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shermen, and would immediatel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asp the significance of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Ne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 the para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Net” – “SAGENE” – English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ine.”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Trench about ½ mile long (use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ea of Galilee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Not a simple fish trap, but a net to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suggest a sweeping that gather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    everything in it sweep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“Sea” – From a Greek word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uggesting the entirety of the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uman race, at will all stand in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judgment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Beach or Shore” – These ar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hore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’s judgment h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Kingdom” – The universal reign of Chris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orldwide, over every m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a companion parable to the Tares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ere the field is the world (Matt 13:38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hrist’s reign is universal bo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ophetically and actuall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salm 2:6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1 Timothy 6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Revelation 19:15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The end of the World” com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en the “Net is full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private parables beg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with the “Beginning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” and end with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ummation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ne of the parables mak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om for the 1000 year re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Angels” – They are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rvester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crip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Matthew 13: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Matthew 25: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2 Thessalon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Furnace of fire” – A fit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for GEHENNA – H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Weeping and gnashing of teeth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ymbol of punishment of the wick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eyond judgment (Matt 8:12; 13:42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3; 24:51; 25:30; Lk 13:2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Min message is that a separation will be made between the righteous and the un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of the Tares teaches us that the unrighteous are not to be weeded out if there is a chance of uprooting the righteou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e are guilty of sin if we cause a brother to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tumble. If he loses his soul because of us, w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an lose our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 By sorting out the unrighteous in the churc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are NOT causing problems could split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urch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lways a chance they may see the error of thei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ay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parable teaches that God will take care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 unrepentant in judgmen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 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re are both good and bad in the church. Be sure you are the go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aithful attendance is a good start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iberal giving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Singing voic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eloquent in prayer is good, but not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reat Bible teach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eing an elder/deacon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Visiting sick/shut-i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a meal to someone just out of the hospital is good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aking notes on sermon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ttending Bible lectures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a Bible degre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L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of the above is good, but not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M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aving the mind of Christ, being willing and loving, being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n subjection to His commands is what is good enoug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20:38:22Z</dcterms:created>
  <dc:creator>Jerry Cantrell </dc:creator>
  <dc:description/>
  <dc:language>en-US</dc:language>
  <cp:lastModifiedBy>Jerry Cantrell </cp:lastModifiedBy>
  <dcterms:modified xsi:type="dcterms:W3CDTF">2006-01-22T22:44:23Z</dcterms:modified>
  <cp:revision>12</cp:revision>
  <dc:subject/>
  <dc:title>THE PARABLE OF THE NET</dc:title>
</cp:coreProperties>
</file>