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91B-E7B0-4E1B-9D4B-F6C391FF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9B3-7BCC-4BB3-879C-B4E6FD8E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C77-BECB-4327-B56A-AF6583A3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82A-C8FE-4DF0-AAA6-52E4987D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0832-AF71-434C-80F1-AFBA0A65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D60F-17E4-472D-B620-F9FEEA89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569F-07E7-4597-BC41-37C1384A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C225-4326-466C-B501-89071316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BF02-C58C-42EE-B41B-3E5FBD63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D0E1-F809-40D0-97E8-E62978D5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FA0D-D817-4438-A599-5D2B6B48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B56-9022-4809-BC49-906B334C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D12E-0377-445B-B0E7-65835DB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6C04-AF0B-42EC-A6E6-F045E20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B379-3986-4758-84C7-C25B9B55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2D75-3897-4CBF-89FB-70863A9C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0963-8093-4983-8B9C-C03399C8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505-028B-4680-A1BE-3915B1BE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329-B67E-426B-BCCD-25DB7D71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6DE-207A-423F-99BD-60558ED5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E96-72C0-47EA-B21C-D5716701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773-2440-4A43-B93F-CBCEE03B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407-24A0-46AB-A183-98A50A69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CAC-46F5-4A0F-85AA-CE8C4BC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E473-E405-46E0-9B45-18E626B09E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FCE7-788A-46C2-85E0-B23091F016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PATCHES ON OLD GARMEN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9:16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2:21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; Luke 5: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Conflict of Old and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me as the previous parable - Jesus is in Galilee eating in Matthew’s house with publicans and sin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Question of fast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question came from Joh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iples – Matthew 9:1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also came from the Pharisees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2: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hristianity is no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patc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n Judaism; It is not an abridgement of, addition to, or syncretism with the Law of Mo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totall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arment, suit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new privileges and bless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To try and mix the two w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stroy the purpose of b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daism – the OLD garment is worn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declared i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 aging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nigh unto passing a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31:31-3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5:17-19 is a gros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isunderstanding of Jesus’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ntent in relation to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Verses 17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is explanation is in v. 1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ith all it types, shadows and blue-prints – once fulfilled, totally loses its significance and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L”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til (always signifi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thereafter). Limits the Law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n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‘to the time that…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3:19 – the law was add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until the seed come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as a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tutor unto Christ’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ow that Christ has come,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we are no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longer under a tuto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s. 24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hristianity inaugurates a totally new economy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 remodeling of the old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new in authority, governmen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erritory, fellowship, destiny, purpose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derstanding and scop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phets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ld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promised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opl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o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Psalm 40:3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62: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Covena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Jer. 31:31-34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Thing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40:9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ven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Earth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65:2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5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r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piri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Ezek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36:3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 honored Passover must find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fulfillment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in Chris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desired to eat the Passover with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postles – the last tim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t would have Jewis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ignificanc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n it was prophetic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w Meaning!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Luke 22:16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eat it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Luke 22:18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kingdom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comes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Matthew 26:19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I drink it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new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4. 1 Corinthians 5:7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our Passover…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sacrificed… even Christ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othing in the Law is incumbent on the church – Eph. 2:14-16; Col. 2:13-17; Gal. 3:15-19, 21-31; 5:2-6.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8:00:03Z</dcterms:created>
  <dc:creator>Jerry Cantrell </dc:creator>
  <dc:description/>
  <dc:language>en-US</dc:language>
  <cp:lastModifiedBy>Jerry Cantrell </cp:lastModifiedBy>
  <dcterms:modified xsi:type="dcterms:W3CDTF">2006-02-13T10:42:06Z</dcterms:modified>
  <cp:revision>11</cp:revision>
  <dc:subject/>
  <dc:title>LESSON 4 NEW PATCHES ON OLD GARMENTS</dc:title>
</cp:coreProperties>
</file>