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1FC-FA68-4A80-B877-234DD8A0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15A-0593-4C1E-8A11-2B178D38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3A0-43B5-4ABA-9985-42322622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50D-8D3D-47A3-88B9-5E7CC32E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9206-C50E-4821-BC57-9AEB5979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9692-D170-41E9-9250-F8F6A18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CB66-6156-4020-96A7-477E5067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4DE-69D2-4005-B4E0-10D7C700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5939-8CC2-4404-8638-0E940F8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6344-0C0C-481B-B1CE-6974CD92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C1F3-3522-4BA3-B211-C17C14FD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C8B-4DB7-42A0-91E0-8609B03D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98BA-1ACE-4D82-85DA-1903DF5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2EEF-2AF1-4B65-9918-74D7C3A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0CC-51A7-438F-8DDE-ACC38655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7490-B0F5-4B3F-BDB4-DC757F90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D520-9422-4D1C-A28A-4A634A3D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7AC-ABF1-4076-BAAE-A18EBFDA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11B-30E4-44B9-8B66-11114535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DA7-FD54-4E39-90BB-E5349E2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4AD-A8E2-4180-B867-19EA314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61A-804F-41A1-AD12-E9D3E98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062-01E0-49E4-891C-529548E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E61-2700-4077-ABBA-1A25509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0631-3E02-4065-9651-D8E5654C0A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E872-B558-4BB4-8CCF-C72EE5999E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11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EARL OF GREAT PRI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5-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Seeking and finding the Kingdom is the supreme discovery bringing the greatest joy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arable of the “Hidden Treasur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Great Value” of the Kingdom is still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willingness to sacrifice all is the characteristic of the seeker for the finder of the tr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cc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rcha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Trader; merchantman; retailer – Rev. 18:3, 11,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merchants of the world weep over fallen Babylo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ear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Highly esteemed for purity and bea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ason for Jesus’ advice – Matt 7: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appreciation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iritual val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Cor. 2:1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atural man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receive the things of the spirit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velation 21:21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oly city…adorne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th twelve pearl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parable expands on the message of the “Hidden Treasur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isdom of seeking the greatest things in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b. 11:6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God is a rewarder of them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at diligent seek Him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. 6:3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seek first </a:t>
            </a: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(first importance)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gdom of Go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 7: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that seeks, find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Acts 17:2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his not far from each on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f us…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easy to find for those wh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see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had a definit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 pursued it with singleness of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Luke 15:8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woman had a lamp, swep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nd searched diligen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oo much “aimlessness”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The parable illustrates the Kingdom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rth intense and diligent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was not satisfied with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rdinary; common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sought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fine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pearl of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great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Understanding the great worth in finding the pear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earl equates to an eternal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ved so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ohn 1:45-46 – It is Phillip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ment to Nathanael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have found the one Moses wrote about in th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law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illingness to sacrif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o posses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ar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merchant was an ordinary trader, but 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becomes a colle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His interest is no longer for physical 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Treasure is too great to negotiate wi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Possession brings joy – he would se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every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) All other pearls are sacrificed to posses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There may be more than one way to find a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or pearl, but there is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ay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ossession them –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sell everythi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lvation is both a gift and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ch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It is a gift - because it is no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merchant’s doing – only his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t is a purchase – because it is wor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everything we can put in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2:3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where your treasure is, the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ll your heart be als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Col. 3:2-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Set your mind on thing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bove, not on earthly things. For you died,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your life is now hidden with Christ in G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Matt 6:20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ut store up for yourselve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treasures in heave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21:18:32Z</dcterms:created>
  <dc:creator>Jerry Cantrell </dc:creator>
  <dc:description/>
  <dc:language>en-US</dc:language>
  <cp:lastModifiedBy>Jerry Cantrell </cp:lastModifiedBy>
  <dcterms:modified xsi:type="dcterms:W3CDTF">2006-02-10T03:29:05Z</dcterms:modified>
  <cp:revision>11</cp:revision>
  <dc:subject/>
  <dc:title>LESSON 11 THE PEARL OF GREAT PRICE</dc:title>
</cp:coreProperties>
</file>