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BFC-8020-483D-B146-1B5B463C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B5F-D10F-40F3-ABD3-6BCCB956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4CA-5C1C-4B2E-B549-E71CF28F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434-1715-49F6-9E5F-610070CD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337F-8BEA-46B4-B969-72D00801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12CC-943F-4335-A306-D399F203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4B7F-7AF2-4EF3-94C5-D40D99A5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C919-169C-47AB-9F1B-F8078632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3A89-4415-4A64-AC94-8F81EC45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80B8-0516-4E76-B61A-26D8D0CF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F35B-5B95-462B-8938-42E97C74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BBC-F1A9-403D-BD5A-68268451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2CDF-5C5C-4EA2-BF3F-3EA028F9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DE45-C2FC-4CB6-A706-4445BC98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DCA6-8C35-4C7E-85B9-032F767A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0C0A-96C0-409E-91C9-1E6F5D84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3E41-39C6-4D41-A995-69328318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4E7-A6A6-4F9B-89C9-CBC59CE5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164-5AE9-45F1-8D6E-E16AB0D8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694-B05F-48F7-8EDF-24CE8FF1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55D-B89A-4481-9091-B71ABF2E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6C6-158A-4CC9-90CE-31A95675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0BA-5140-48F1-B57F-267CC4F8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3FE-E12B-4FD4-8EB5-71369538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F677-74FE-4246-9A36-06A1FDD32D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85C7-48D3-43C0-AA49-A293CC1847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esson 3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GUEST OF THE BRIDEGRO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rk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2:18-20</a:t>
            </a: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; Luke 5:33-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Good News of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Contrast of the Old and The N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is in Galilee eating in Matthew’s house with publicans and sinners (Mark 2:15-16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great feast &amp; great multitude of Publicans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(Luke 5:29). </a:t>
            </a:r>
            <a:r>
              <a:rPr b="0" i="1" lang="en-US" sz="2300" spc="-1" strike="noStrike">
                <a:solidFill>
                  <a:srgbClr val="ffffff"/>
                </a:solidFill>
                <a:latin typeface="BernhardMod BT"/>
              </a:rPr>
              <a:t>“Levi held a great banquet…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’s disciples, Pharisees were fasting (Mark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:18).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Their Question to Jesus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John’s disciples fasted ofte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ir fast were in contrast to the law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came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Benguiat Bk BT"/>
              </a:rPr>
              <a:t>neither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eating or drinking – had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demon (Matt. 11:18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came eating and drinking – A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lutton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&amp; winebibber (Matt. 11:19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’s disciples fasted as a warning of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mpending doom (ax at the root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Pharisees fasted often to show p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to be seen of men (Matt. 6:16-1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“twice weekly” to show piet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Lk. 18: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eligion was a burden to be born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Matt. 23:1-1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ed to accumulating mer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Demands of the Law on fa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ne fast per year (Lev. 23:2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eferring to Levitical fast (Acts 27:9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ast were voluntary (practiced for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orrow, affliction, humiliation in sin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wo Questions Asked By Pharisees &amp; John’s Disciples (Mark 2: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hy He eats with Pharisees &amp;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sinner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Answer: Mark 2:17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The healthy do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not need a doctor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Matthew 9:13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Go and learn what this 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means, I desire mercy, not sacrifi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Luke 5:32, adds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…come to call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     sinners to repentan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Why do your disciples not fast?”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1. What right do you have to celebrate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2. Why do you reject common practice &amp; order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Benguiat Bk BT"/>
              </a:rPr>
              <a:t>3. How do you justify being differ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esus answers question on fasting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ridegroom is here – It is time for rejoi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Not a time for sorrowful fas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Compares it to a marriage feas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. What groom is to bride; Christ is to discipl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When groom is gone, they will fast (Lk 17:31ff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. Fast has meaning only when there is a reas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. If no reason or circumstance, then it is mer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      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   pious mockery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ospel does not bind Jewish f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sting is allowed but nev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tual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emon cast from Epileptic Bo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7:21; Mk 9:2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/Barnabas set apart by fast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Acts 13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lders ordained by fasting (Ac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4:22-2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 fasted often (2 Cor. 11:2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ange comes slowly &amp; most always meets with resista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ladness accompanies redemption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ws did not underst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k 15 – Father kills fatted calf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lder brother fast and sul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the Baptist – John 3:2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omans 14:17 – What is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Kingdo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alatians 5:22 – Fruits of the spir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How change meets resistance – Example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Plucking ears of grain on the Sabbath –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Mark 2:23-28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Healing a woman on the Sabbath -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uke 13:11-17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It is easy for tradition to settle into law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nd anything that would be normal i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aken as abnormal to the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raditionalis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hen actions become habit, and habit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ecomes custom, and custom settle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into tradition, then tradition becomes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aw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4:28:58Z</dcterms:created>
  <dc:creator>Jerry Cantrell </dc:creator>
  <dc:description/>
  <dc:language>en-US</dc:language>
  <cp:lastModifiedBy>Jerry Cantrell </cp:lastModifiedBy>
  <dcterms:modified xsi:type="dcterms:W3CDTF">2006-02-13T10:29:53Z</dcterms:modified>
  <cp:revision>19</cp:revision>
  <dc:subject/>
  <dc:title>GUEST OF THE BRIDEGROOM</dc:title>
</cp:coreProperties>
</file>