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F54-AEB6-4BF6-BD5A-33EABDED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88F-49D0-4957-A00C-C8549252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D97-7C8C-4312-8177-4D2ECE35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DD4-B2CC-49E3-9091-3C3C7B7D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44D8-CF01-4C6D-93AE-A55EB33B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5F0B-63E1-425A-951C-91BF0503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FD03-3175-48E0-B058-734E7FC7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17A2-D822-49E8-BAAA-B87D7A32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FCC6-7ADF-4466-86B9-1CFA22DE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D347-6C93-4880-8FC8-6673671E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D481-8398-424A-82EA-758E95E3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2D2-2032-4E16-9E9F-29A8E870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A74D-A86E-4EF6-8C04-7A27C068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B7F4-AA8F-46BA-AA3C-BE77F154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39D5-68D9-42B3-846B-D10CFA05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43A4-3781-4492-AF4E-B5A4DF38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69DF-69CE-48F3-B42E-87011ECB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3B4-5AC9-456A-B7B5-81AABC00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CFA-E8FD-4D30-BD37-49F3C4EF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2A1-854C-4BAA-8939-1A3D8E16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A4B-E0E1-4712-A371-A056CBF1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0FF1-F099-41C8-B11A-37BF2556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C0CF-EBF3-40B7-8A70-B759751F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CDD-FC89-431C-9B34-D66612F3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182E-D357-4B73-9E4D-B18626F9D5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AA07-2564-4473-A1BF-37D02C8628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SYLLAB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THE PAR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SSIGNMENTS AND EX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EADING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Read each of the parables two times 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MORY VER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78: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14:33-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9: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2: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13:20-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13: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SSIGNMENTS AND EX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ESEARCH PAP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rite a two-page essay o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aning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f one of the list 45 Parables (your choic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XA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ne Exam – a F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ELF-EXAM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mplete all your Self-Exa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ll Chapters ma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ve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xam question will come from the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GR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600" cy="4689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AD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EMORY VERS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SEARCH PAP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SELF-EXAM QUESTION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INAL EX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6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3:57:56Z</dcterms:created>
  <dc:creator>Jerry Cantrell </dc:creator>
  <dc:description/>
  <dc:language>en-US</dc:language>
  <cp:lastModifiedBy>Jerry Cantrell </cp:lastModifiedBy>
  <dcterms:modified xsi:type="dcterms:W3CDTF">2006-02-06T23:29:51Z</dcterms:modified>
  <cp:revision>4</cp:revision>
  <dc:subject/>
  <dc:title>SYLLABUS</dc:title>
</cp:coreProperties>
</file>